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018-E833-43C5-8AEB-DA28BA9D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DAB-F6D5-4A55-8458-5C136C21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ABA-CE47-4978-A37B-F8A04D03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3B0-F790-4E3F-9360-E2449D07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7F20-74B5-425D-9242-0C69AB6F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4CB-E864-40F1-8B96-CE61AFAE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3447-AFF5-48D5-8F00-6F88D39B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D43-B249-43FE-BB5D-DC3E941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A99-9390-4333-A6EB-B94E342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BBAF-B6BD-4960-819B-D952A3E8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2918-00E0-455D-932F-5BE1FA0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487-E79A-44FD-AFBF-F54398FC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EE1-EB2F-412A-910C-89AF0BA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38F7-E1CA-44CB-A1E0-7F1C081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CEB6-AC2F-4635-90D4-99471003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D0E2-46B3-45D3-B915-4778B1BE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80A5-5B22-4E8F-B170-14B0971B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323-8879-4592-A123-624FAEE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741-DD4D-4BAE-AC00-4CE1B23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D14-18F7-4078-A128-2BEAAE2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F5E-D000-4287-8AB0-452E765E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3DF-FE78-4E47-B2B2-F9C7BF5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FCD-A185-4994-93CF-2186B25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D05-2F84-429E-B46B-245DFA96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A4B4-0209-49C9-B93E-116550B063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A85B-F930-4D10-A70A-79A0EB3ED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7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/3 x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5/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2795760"/>
            <a:ext cx="196920" cy="125280"/>
          </a:xfrm>
          <a:custGeom>
            <a:avLst/>
            <a:gdLst/>
            <a:ahLst/>
            <a:rect l="l" t="t" r="r" b="b"/>
            <a:pathLst>
              <a:path w="547" h="348">
                <a:moveTo>
                  <a:pt x="10120" y="7764"/>
                </a:moveTo>
                <a:cubicBezTo>
                  <a:pt x="10278" y="7776"/>
                  <a:pt x="10438" y="7785"/>
                  <a:pt x="10592" y="7813"/>
                </a:cubicBezTo>
              </a:path>
              <a:path w="547" h="348">
                <a:moveTo>
                  <a:pt x="10244" y="8086"/>
                </a:moveTo>
                <a:cubicBezTo>
                  <a:pt x="10430" y="8065"/>
                  <a:pt x="10493" y="8060"/>
                  <a:pt x="10666" y="81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60880" y="2705040"/>
            <a:ext cx="1930320" cy="669960"/>
          </a:xfrm>
          <a:custGeom>
            <a:avLst/>
            <a:gdLst/>
            <a:ahLst/>
            <a:rect l="l" t="t" r="r" b="b"/>
            <a:pathLst>
              <a:path w="5359" h="1861">
                <a:moveTo>
                  <a:pt x="12477" y="7615"/>
                </a:moveTo>
                <a:cubicBezTo>
                  <a:pt x="12429" y="7663"/>
                  <a:pt x="12308" y="7619"/>
                  <a:pt x="12229" y="7590"/>
                </a:cubicBezTo>
                <a:cubicBezTo>
                  <a:pt x="12099" y="7543"/>
                  <a:pt x="12113" y="7717"/>
                  <a:pt x="12080" y="7813"/>
                </a:cubicBezTo>
                <a:cubicBezTo>
                  <a:pt x="12058" y="7857"/>
                  <a:pt x="12045" y="7869"/>
                  <a:pt x="12080" y="7888"/>
                </a:cubicBezTo>
                <a:cubicBezTo>
                  <a:pt x="12221" y="7874"/>
                  <a:pt x="12397" y="7814"/>
                  <a:pt x="12526" y="7913"/>
                </a:cubicBezTo>
                <a:cubicBezTo>
                  <a:pt x="12722" y="8063"/>
                  <a:pt x="12401" y="8232"/>
                  <a:pt x="12278" y="8235"/>
                </a:cubicBezTo>
                <a:cubicBezTo>
                  <a:pt x="12178" y="8215"/>
                  <a:pt x="12158" y="8217"/>
                  <a:pt x="12105" y="8186"/>
                </a:cubicBezTo>
              </a:path>
              <a:path w="5359" h="1861">
                <a:moveTo>
                  <a:pt x="11559" y="8607"/>
                </a:moveTo>
                <a:cubicBezTo>
                  <a:pt x="11919" y="8566"/>
                  <a:pt x="12289" y="8506"/>
                  <a:pt x="12650" y="8558"/>
                </a:cubicBezTo>
                <a:cubicBezTo>
                  <a:pt x="12673" y="8580"/>
                  <a:pt x="12681" y="8585"/>
                  <a:pt x="12675" y="8607"/>
                </a:cubicBezTo>
              </a:path>
              <a:path w="5359" h="1861">
                <a:moveTo>
                  <a:pt x="11906" y="8930"/>
                </a:moveTo>
                <a:cubicBezTo>
                  <a:pt x="11969" y="8920"/>
                  <a:pt x="12427" y="8844"/>
                  <a:pt x="12402" y="8979"/>
                </a:cubicBezTo>
                <a:cubicBezTo>
                  <a:pt x="12378" y="9111"/>
                  <a:pt x="12203" y="9143"/>
                  <a:pt x="12105" y="9178"/>
                </a:cubicBezTo>
                <a:cubicBezTo>
                  <a:pt x="12198" y="9166"/>
                  <a:pt x="12453" y="9081"/>
                  <a:pt x="12452" y="9252"/>
                </a:cubicBezTo>
                <a:cubicBezTo>
                  <a:pt x="12451" y="9460"/>
                  <a:pt x="12017" y="9356"/>
                  <a:pt x="11931" y="9302"/>
                </a:cubicBezTo>
                <a:cubicBezTo>
                  <a:pt x="11914" y="9277"/>
                  <a:pt x="11898" y="9252"/>
                  <a:pt x="11881" y="9227"/>
                </a:cubicBezTo>
              </a:path>
              <a:path w="5359" h="1861">
                <a:moveTo>
                  <a:pt x="13246" y="8161"/>
                </a:moveTo>
                <a:cubicBezTo>
                  <a:pt x="13309" y="8298"/>
                  <a:pt x="13403" y="8593"/>
                  <a:pt x="13494" y="8558"/>
                </a:cubicBezTo>
              </a:path>
              <a:path w="5359" h="1861">
                <a:moveTo>
                  <a:pt x="13469" y="8136"/>
                </a:moveTo>
                <a:cubicBezTo>
                  <a:pt x="13425" y="8233"/>
                  <a:pt x="13261" y="8572"/>
                  <a:pt x="13271" y="8582"/>
                </a:cubicBezTo>
              </a:path>
              <a:path w="5359" h="1861">
                <a:moveTo>
                  <a:pt x="13965" y="7615"/>
                </a:moveTo>
                <a:cubicBezTo>
                  <a:pt x="14015" y="7548"/>
                  <a:pt x="14183" y="7500"/>
                  <a:pt x="14263" y="7590"/>
                </a:cubicBezTo>
                <a:cubicBezTo>
                  <a:pt x="14371" y="7712"/>
                  <a:pt x="14204" y="7823"/>
                  <a:pt x="14139" y="7888"/>
                </a:cubicBezTo>
                <a:cubicBezTo>
                  <a:pt x="14131" y="7896"/>
                  <a:pt x="14122" y="7905"/>
                  <a:pt x="14114" y="7913"/>
                </a:cubicBezTo>
                <a:cubicBezTo>
                  <a:pt x="14224" y="7816"/>
                  <a:pt x="14455" y="7848"/>
                  <a:pt x="14436" y="8062"/>
                </a:cubicBezTo>
                <a:cubicBezTo>
                  <a:pt x="14415" y="8298"/>
                  <a:pt x="14137" y="8260"/>
                  <a:pt x="13990" y="8235"/>
                </a:cubicBezTo>
              </a:path>
              <a:path w="5359" h="1861">
                <a:moveTo>
                  <a:pt x="13891" y="8409"/>
                </a:moveTo>
                <a:cubicBezTo>
                  <a:pt x="14058" y="8398"/>
                  <a:pt x="14530" y="8308"/>
                  <a:pt x="14511" y="8434"/>
                </a:cubicBezTo>
              </a:path>
              <a:path w="5359" h="1861">
                <a:moveTo>
                  <a:pt x="13816" y="8632"/>
                </a:moveTo>
                <a:cubicBezTo>
                  <a:pt x="13796" y="8703"/>
                  <a:pt x="13698" y="8829"/>
                  <a:pt x="13841" y="8855"/>
                </a:cubicBezTo>
                <a:cubicBezTo>
                  <a:pt x="13992" y="8882"/>
                  <a:pt x="14141" y="8823"/>
                  <a:pt x="14288" y="8806"/>
                </a:cubicBezTo>
              </a:path>
              <a:path w="5359" h="1861">
                <a:moveTo>
                  <a:pt x="14238" y="8558"/>
                </a:moveTo>
                <a:cubicBezTo>
                  <a:pt x="14187" y="8746"/>
                  <a:pt x="14152" y="8937"/>
                  <a:pt x="14114" y="9128"/>
                </a:cubicBezTo>
                <a:cubicBezTo>
                  <a:pt x="14114" y="9153"/>
                  <a:pt x="14114" y="9161"/>
                  <a:pt x="14089" y="9153"/>
                </a:cubicBezTo>
              </a:path>
              <a:path w="5359" h="1861">
                <a:moveTo>
                  <a:pt x="15007" y="8334"/>
                </a:moveTo>
                <a:cubicBezTo>
                  <a:pt x="15142" y="8334"/>
                  <a:pt x="15274" y="8320"/>
                  <a:pt x="15404" y="8359"/>
                </a:cubicBezTo>
                <a:cubicBezTo>
                  <a:pt x="15396" y="8359"/>
                  <a:pt x="15387" y="8359"/>
                  <a:pt x="15379" y="8359"/>
                </a:cubicBezTo>
              </a:path>
              <a:path w="5359" h="1861">
                <a:moveTo>
                  <a:pt x="15081" y="8533"/>
                </a:moveTo>
                <a:cubicBezTo>
                  <a:pt x="15228" y="8527"/>
                  <a:pt x="15337" y="8517"/>
                  <a:pt x="15478" y="8483"/>
                </a:cubicBezTo>
              </a:path>
              <a:path w="5359" h="1861">
                <a:moveTo>
                  <a:pt x="16024" y="7516"/>
                </a:moveTo>
                <a:cubicBezTo>
                  <a:pt x="16024" y="7709"/>
                  <a:pt x="16015" y="7895"/>
                  <a:pt x="15999" y="8086"/>
                </a:cubicBezTo>
              </a:path>
              <a:path w="5359" h="1861">
                <a:moveTo>
                  <a:pt x="16768" y="7565"/>
                </a:moveTo>
                <a:cubicBezTo>
                  <a:pt x="16743" y="7560"/>
                  <a:pt x="16541" y="7506"/>
                  <a:pt x="16520" y="7541"/>
                </a:cubicBezTo>
                <a:cubicBezTo>
                  <a:pt x="16475" y="7615"/>
                  <a:pt x="16466" y="7731"/>
                  <a:pt x="16446" y="7813"/>
                </a:cubicBezTo>
                <a:cubicBezTo>
                  <a:pt x="16592" y="7799"/>
                  <a:pt x="16701" y="7733"/>
                  <a:pt x="16842" y="7813"/>
                </a:cubicBezTo>
                <a:cubicBezTo>
                  <a:pt x="16867" y="7838"/>
                  <a:pt x="16892" y="7863"/>
                  <a:pt x="16917" y="7888"/>
                </a:cubicBezTo>
                <a:cubicBezTo>
                  <a:pt x="16841" y="8051"/>
                  <a:pt x="16702" y="8170"/>
                  <a:pt x="16495" y="8086"/>
                </a:cubicBezTo>
                <a:cubicBezTo>
                  <a:pt x="16487" y="8070"/>
                  <a:pt x="16478" y="8053"/>
                  <a:pt x="16470" y="8037"/>
                </a:cubicBezTo>
              </a:path>
              <a:path w="5359" h="1861">
                <a:moveTo>
                  <a:pt x="15825" y="8310"/>
                </a:moveTo>
                <a:cubicBezTo>
                  <a:pt x="16166" y="8297"/>
                  <a:pt x="16501" y="8265"/>
                  <a:pt x="16842" y="8310"/>
                </a:cubicBezTo>
                <a:cubicBezTo>
                  <a:pt x="16963" y="8326"/>
                  <a:pt x="16916" y="8352"/>
                  <a:pt x="16867" y="8409"/>
                </a:cubicBezTo>
              </a:path>
              <a:path w="5359" h="1861">
                <a:moveTo>
                  <a:pt x="15925" y="8558"/>
                </a:moveTo>
                <a:cubicBezTo>
                  <a:pt x="15994" y="8651"/>
                  <a:pt x="15934" y="8798"/>
                  <a:pt x="15925" y="8905"/>
                </a:cubicBezTo>
                <a:cubicBezTo>
                  <a:pt x="15925" y="8921"/>
                  <a:pt x="15925" y="8938"/>
                  <a:pt x="15925" y="8954"/>
                </a:cubicBezTo>
              </a:path>
              <a:path w="5359" h="1861">
                <a:moveTo>
                  <a:pt x="16247" y="8607"/>
                </a:moveTo>
                <a:cubicBezTo>
                  <a:pt x="16419" y="8607"/>
                  <a:pt x="16506" y="8614"/>
                  <a:pt x="16644" y="8706"/>
                </a:cubicBezTo>
                <a:cubicBezTo>
                  <a:pt x="16620" y="8857"/>
                  <a:pt x="16545" y="9078"/>
                  <a:pt x="16321" y="9029"/>
                </a:cubicBezTo>
                <a:cubicBezTo>
                  <a:pt x="16288" y="9004"/>
                  <a:pt x="16255" y="8979"/>
                  <a:pt x="16222" y="8954"/>
                </a:cubicBezTo>
                <a:cubicBezTo>
                  <a:pt x="16297" y="8814"/>
                  <a:pt x="16429" y="8689"/>
                  <a:pt x="16619" y="8781"/>
                </a:cubicBezTo>
                <a:cubicBezTo>
                  <a:pt x="16709" y="8824"/>
                  <a:pt x="16724" y="8944"/>
                  <a:pt x="16768" y="89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3080" y="2133720"/>
            <a:ext cx="2124000" cy="1455480"/>
          </a:xfrm>
          <a:custGeom>
            <a:avLst/>
            <a:gdLst/>
            <a:ahLst/>
            <a:rect l="l" t="t" r="r" b="b"/>
            <a:pathLst>
              <a:path w="5904" h="4044">
                <a:moveTo>
                  <a:pt x="19893" y="8062"/>
                </a:moveTo>
                <a:cubicBezTo>
                  <a:pt x="19893" y="8239"/>
                  <a:pt x="19887" y="8410"/>
                  <a:pt x="19918" y="8582"/>
                </a:cubicBezTo>
              </a:path>
              <a:path w="5904" h="4044">
                <a:moveTo>
                  <a:pt x="20588" y="8012"/>
                </a:moveTo>
                <a:cubicBezTo>
                  <a:pt x="20545" y="8012"/>
                  <a:pt x="20343" y="7978"/>
                  <a:pt x="20340" y="8037"/>
                </a:cubicBezTo>
                <a:cubicBezTo>
                  <a:pt x="20336" y="8107"/>
                  <a:pt x="20323" y="8167"/>
                  <a:pt x="20315" y="8235"/>
                </a:cubicBezTo>
                <a:cubicBezTo>
                  <a:pt x="20458" y="8191"/>
                  <a:pt x="20564" y="8173"/>
                  <a:pt x="20712" y="8210"/>
                </a:cubicBezTo>
                <a:cubicBezTo>
                  <a:pt x="20831" y="8240"/>
                  <a:pt x="20910" y="8408"/>
                  <a:pt x="20811" y="8508"/>
                </a:cubicBezTo>
                <a:cubicBezTo>
                  <a:pt x="20675" y="8644"/>
                  <a:pt x="20504" y="8474"/>
                  <a:pt x="20389" y="8409"/>
                </a:cubicBezTo>
              </a:path>
              <a:path w="5904" h="4044">
                <a:moveTo>
                  <a:pt x="19645" y="8607"/>
                </a:moveTo>
                <a:cubicBezTo>
                  <a:pt x="19681" y="8445"/>
                  <a:pt x="19681" y="8303"/>
                  <a:pt x="19695" y="8136"/>
                </a:cubicBezTo>
                <a:cubicBezTo>
                  <a:pt x="19706" y="8004"/>
                  <a:pt x="19704" y="7853"/>
                  <a:pt x="19720" y="7739"/>
                </a:cubicBezTo>
                <a:cubicBezTo>
                  <a:pt x="20052" y="7739"/>
                  <a:pt x="20380" y="7740"/>
                  <a:pt x="20712" y="7764"/>
                </a:cubicBezTo>
                <a:cubicBezTo>
                  <a:pt x="20895" y="7777"/>
                  <a:pt x="21244" y="7690"/>
                  <a:pt x="21059" y="7838"/>
                </a:cubicBezTo>
              </a:path>
              <a:path w="5904" h="4044">
                <a:moveTo>
                  <a:pt x="18976" y="7987"/>
                </a:moveTo>
                <a:cubicBezTo>
                  <a:pt x="18989" y="8161"/>
                  <a:pt x="18994" y="8288"/>
                  <a:pt x="18951" y="8458"/>
                </a:cubicBezTo>
              </a:path>
              <a:path w="5904" h="4044">
                <a:moveTo>
                  <a:pt x="19100" y="7987"/>
                </a:moveTo>
                <a:cubicBezTo>
                  <a:pt x="19290" y="8005"/>
                  <a:pt x="19537" y="8049"/>
                  <a:pt x="19372" y="8310"/>
                </a:cubicBezTo>
                <a:cubicBezTo>
                  <a:pt x="19301" y="8423"/>
                  <a:pt x="19213" y="8405"/>
                  <a:pt x="19149" y="8359"/>
                </a:cubicBezTo>
                <a:cubicBezTo>
                  <a:pt x="19243" y="8204"/>
                  <a:pt x="19304" y="8276"/>
                  <a:pt x="19447" y="8359"/>
                </a:cubicBezTo>
                <a:cubicBezTo>
                  <a:pt x="19487" y="8379"/>
                  <a:pt x="19493" y="8388"/>
                  <a:pt x="19521" y="8384"/>
                </a:cubicBezTo>
              </a:path>
              <a:path w="5904" h="4044">
                <a:moveTo>
                  <a:pt x="20737" y="7020"/>
                </a:moveTo>
                <a:cubicBezTo>
                  <a:pt x="20737" y="7164"/>
                  <a:pt x="20736" y="7305"/>
                  <a:pt x="20712" y="7441"/>
                </a:cubicBezTo>
                <a:cubicBezTo>
                  <a:pt x="20712" y="7449"/>
                  <a:pt x="20712" y="7458"/>
                  <a:pt x="20712" y="7466"/>
                </a:cubicBezTo>
              </a:path>
              <a:path w="5904" h="4044">
                <a:moveTo>
                  <a:pt x="19893" y="8756"/>
                </a:moveTo>
                <a:cubicBezTo>
                  <a:pt x="19912" y="8872"/>
                  <a:pt x="19918" y="8982"/>
                  <a:pt x="19918" y="9103"/>
                </a:cubicBezTo>
                <a:cubicBezTo>
                  <a:pt x="19918" y="9111"/>
                  <a:pt x="19918" y="9120"/>
                  <a:pt x="19918" y="9128"/>
                </a:cubicBezTo>
              </a:path>
              <a:path w="5904" h="4044">
                <a:moveTo>
                  <a:pt x="20340" y="8756"/>
                </a:moveTo>
                <a:cubicBezTo>
                  <a:pt x="20462" y="8841"/>
                  <a:pt x="20778" y="9037"/>
                  <a:pt x="20538" y="9203"/>
                </a:cubicBezTo>
                <a:cubicBezTo>
                  <a:pt x="20434" y="9275"/>
                  <a:pt x="20350" y="9213"/>
                  <a:pt x="20290" y="9153"/>
                </a:cubicBezTo>
                <a:cubicBezTo>
                  <a:pt x="20481" y="9031"/>
                  <a:pt x="20511" y="9103"/>
                  <a:pt x="20687" y="9227"/>
                </a:cubicBezTo>
                <a:cubicBezTo>
                  <a:pt x="20704" y="9235"/>
                  <a:pt x="20720" y="9244"/>
                  <a:pt x="20737" y="9252"/>
                </a:cubicBezTo>
              </a:path>
              <a:path w="5904" h="4044">
                <a:moveTo>
                  <a:pt x="19670" y="9351"/>
                </a:moveTo>
                <a:cubicBezTo>
                  <a:pt x="20021" y="9341"/>
                  <a:pt x="20362" y="9330"/>
                  <a:pt x="20712" y="9351"/>
                </a:cubicBezTo>
                <a:cubicBezTo>
                  <a:pt x="20729" y="9351"/>
                  <a:pt x="20745" y="9351"/>
                  <a:pt x="20762" y="9351"/>
                </a:cubicBezTo>
              </a:path>
              <a:path w="5904" h="4044">
                <a:moveTo>
                  <a:pt x="20464" y="9525"/>
                </a:moveTo>
                <a:cubicBezTo>
                  <a:pt x="20512" y="9519"/>
                  <a:pt x="20819" y="9490"/>
                  <a:pt x="20737" y="9599"/>
                </a:cubicBezTo>
                <a:cubicBezTo>
                  <a:pt x="20670" y="9688"/>
                  <a:pt x="20615" y="9660"/>
                  <a:pt x="20563" y="9699"/>
                </a:cubicBezTo>
                <a:cubicBezTo>
                  <a:pt x="20741" y="9721"/>
                  <a:pt x="20781" y="9733"/>
                  <a:pt x="20861" y="9872"/>
                </a:cubicBezTo>
                <a:cubicBezTo>
                  <a:pt x="20665" y="10012"/>
                  <a:pt x="20595" y="9990"/>
                  <a:pt x="20439" y="9823"/>
                </a:cubicBezTo>
              </a:path>
              <a:path w="5904" h="4044">
                <a:moveTo>
                  <a:pt x="21530" y="6648"/>
                </a:moveTo>
                <a:cubicBezTo>
                  <a:pt x="21543" y="6646"/>
                  <a:pt x="21817" y="6583"/>
                  <a:pt x="21779" y="6697"/>
                </a:cubicBezTo>
                <a:cubicBezTo>
                  <a:pt x="21725" y="6724"/>
                  <a:pt x="21704" y="6736"/>
                  <a:pt x="21679" y="6772"/>
                </a:cubicBezTo>
                <a:cubicBezTo>
                  <a:pt x="21755" y="6784"/>
                  <a:pt x="21770" y="6800"/>
                  <a:pt x="21828" y="6846"/>
                </a:cubicBezTo>
                <a:cubicBezTo>
                  <a:pt x="21783" y="6966"/>
                  <a:pt x="21683" y="6969"/>
                  <a:pt x="21555" y="6921"/>
                </a:cubicBezTo>
                <a:cubicBezTo>
                  <a:pt x="21547" y="6913"/>
                  <a:pt x="21538" y="6904"/>
                  <a:pt x="21530" y="6896"/>
                </a:cubicBezTo>
              </a:path>
              <a:path w="5904" h="4044">
                <a:moveTo>
                  <a:pt x="21481" y="7045"/>
                </a:moveTo>
                <a:cubicBezTo>
                  <a:pt x="21610" y="7058"/>
                  <a:pt x="21912" y="7074"/>
                  <a:pt x="21952" y="7094"/>
                </a:cubicBezTo>
              </a:path>
              <a:path w="5904" h="4044">
                <a:moveTo>
                  <a:pt x="21555" y="7193"/>
                </a:moveTo>
                <a:cubicBezTo>
                  <a:pt x="21530" y="7296"/>
                  <a:pt x="21506" y="7385"/>
                  <a:pt x="21506" y="7491"/>
                </a:cubicBezTo>
                <a:cubicBezTo>
                  <a:pt x="21506" y="7483"/>
                  <a:pt x="21506" y="7474"/>
                  <a:pt x="21506" y="7466"/>
                </a:cubicBezTo>
              </a:path>
              <a:path w="5904" h="4044">
                <a:moveTo>
                  <a:pt x="21754" y="7243"/>
                </a:moveTo>
                <a:cubicBezTo>
                  <a:pt x="21947" y="7295"/>
                  <a:pt x="21952" y="7306"/>
                  <a:pt x="21828" y="7466"/>
                </a:cubicBezTo>
                <a:cubicBezTo>
                  <a:pt x="21820" y="7474"/>
                  <a:pt x="21811" y="7483"/>
                  <a:pt x="21803" y="7491"/>
                </a:cubicBezTo>
                <a:cubicBezTo>
                  <a:pt x="21936" y="7491"/>
                  <a:pt x="22067" y="7471"/>
                  <a:pt x="22200" y="7466"/>
                </a:cubicBezTo>
              </a:path>
              <a:path w="5904" h="4044">
                <a:moveTo>
                  <a:pt x="22622" y="7045"/>
                </a:moveTo>
                <a:cubicBezTo>
                  <a:pt x="22728" y="7052"/>
                  <a:pt x="22855" y="7055"/>
                  <a:pt x="22944" y="7094"/>
                </a:cubicBezTo>
              </a:path>
              <a:path w="5904" h="4044">
                <a:moveTo>
                  <a:pt x="22622" y="7218"/>
                </a:moveTo>
                <a:cubicBezTo>
                  <a:pt x="22746" y="7218"/>
                  <a:pt x="22870" y="7218"/>
                  <a:pt x="22994" y="7218"/>
                </a:cubicBezTo>
              </a:path>
              <a:path w="5904" h="4044">
                <a:moveTo>
                  <a:pt x="23440" y="6648"/>
                </a:moveTo>
                <a:cubicBezTo>
                  <a:pt x="23485" y="6823"/>
                  <a:pt x="23475" y="7004"/>
                  <a:pt x="23490" y="7193"/>
                </a:cubicBezTo>
                <a:cubicBezTo>
                  <a:pt x="23499" y="7310"/>
                  <a:pt x="23515" y="7400"/>
                  <a:pt x="23515" y="7516"/>
                </a:cubicBezTo>
              </a:path>
              <a:path w="5904" h="4044">
                <a:moveTo>
                  <a:pt x="24061" y="6524"/>
                </a:moveTo>
                <a:cubicBezTo>
                  <a:pt x="24104" y="6645"/>
                  <a:pt x="24127" y="6767"/>
                  <a:pt x="24135" y="6896"/>
                </a:cubicBezTo>
                <a:cubicBezTo>
                  <a:pt x="24135" y="6921"/>
                  <a:pt x="24135" y="6929"/>
                  <a:pt x="24135" y="6945"/>
                </a:cubicBezTo>
              </a:path>
              <a:path w="5904" h="4044">
                <a:moveTo>
                  <a:pt x="24135" y="6970"/>
                </a:moveTo>
                <a:cubicBezTo>
                  <a:pt x="24267" y="6970"/>
                  <a:pt x="24400" y="6970"/>
                  <a:pt x="24532" y="6970"/>
                </a:cubicBezTo>
              </a:path>
              <a:path w="5904" h="4044">
                <a:moveTo>
                  <a:pt x="24160" y="7243"/>
                </a:moveTo>
                <a:cubicBezTo>
                  <a:pt x="24160" y="7342"/>
                  <a:pt x="24146" y="7437"/>
                  <a:pt x="24284" y="7417"/>
                </a:cubicBezTo>
                <a:cubicBezTo>
                  <a:pt x="24324" y="7397"/>
                  <a:pt x="24340" y="7398"/>
                  <a:pt x="24333" y="7367"/>
                </a:cubicBezTo>
              </a:path>
              <a:path w="5904" h="4044">
                <a:moveTo>
                  <a:pt x="24284" y="7169"/>
                </a:moveTo>
                <a:cubicBezTo>
                  <a:pt x="24258" y="7286"/>
                  <a:pt x="24263" y="7489"/>
                  <a:pt x="24209" y="7590"/>
                </a:cubicBezTo>
                <a:cubicBezTo>
                  <a:pt x="24201" y="7590"/>
                  <a:pt x="24193" y="7590"/>
                  <a:pt x="24185" y="7590"/>
                </a:cubicBezTo>
              </a:path>
              <a:path w="5904" h="4044">
                <a:moveTo>
                  <a:pt x="24011" y="7045"/>
                </a:moveTo>
                <a:cubicBezTo>
                  <a:pt x="23983" y="7036"/>
                  <a:pt x="23970" y="6996"/>
                  <a:pt x="23961" y="6970"/>
                </a:cubicBezTo>
                <a:cubicBezTo>
                  <a:pt x="24068" y="6997"/>
                  <a:pt x="24108" y="7005"/>
                  <a:pt x="24185" y="6995"/>
                </a:cubicBezTo>
              </a:path>
              <a:path w="5904" h="4044">
                <a:moveTo>
                  <a:pt x="23168" y="7764"/>
                </a:moveTo>
                <a:cubicBezTo>
                  <a:pt x="23271" y="7986"/>
                  <a:pt x="23403" y="7965"/>
                  <a:pt x="23639" y="8012"/>
                </a:cubicBezTo>
                <a:cubicBezTo>
                  <a:pt x="23833" y="8051"/>
                  <a:pt x="24136" y="8166"/>
                  <a:pt x="24333" y="8086"/>
                </a:cubicBezTo>
                <a:cubicBezTo>
                  <a:pt x="24535" y="8004"/>
                  <a:pt x="24765" y="7804"/>
                  <a:pt x="24829" y="7590"/>
                </a:cubicBezTo>
                <a:cubicBezTo>
                  <a:pt x="24920" y="7284"/>
                  <a:pt x="24813" y="7016"/>
                  <a:pt x="24681" y="6747"/>
                </a:cubicBezTo>
                <a:cubicBezTo>
                  <a:pt x="24566" y="6513"/>
                  <a:pt x="24418" y="6352"/>
                  <a:pt x="24234" y="6176"/>
                </a:cubicBezTo>
                <a:cubicBezTo>
                  <a:pt x="24056" y="6006"/>
                  <a:pt x="23920" y="5914"/>
                  <a:pt x="23664" y="5928"/>
                </a:cubicBezTo>
                <a:cubicBezTo>
                  <a:pt x="23354" y="5944"/>
                  <a:pt x="23159" y="6244"/>
                  <a:pt x="23044" y="6499"/>
                </a:cubicBezTo>
                <a:cubicBezTo>
                  <a:pt x="22920" y="6773"/>
                  <a:pt x="22804" y="7242"/>
                  <a:pt x="22920" y="7541"/>
                </a:cubicBezTo>
                <a:cubicBezTo>
                  <a:pt x="23022" y="7802"/>
                  <a:pt x="23312" y="7833"/>
                  <a:pt x="23540" y="791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2259000"/>
            <a:ext cx="214200" cy="152280"/>
          </a:xfrm>
          <a:custGeom>
            <a:avLst/>
            <a:gdLst/>
            <a:ahLst/>
            <a:rect l="l" t="t" r="r" b="b"/>
            <a:pathLst>
              <a:path w="596" h="422">
                <a:moveTo>
                  <a:pt x="22101" y="6672"/>
                </a:moveTo>
                <a:cubicBezTo>
                  <a:pt x="22168" y="6633"/>
                  <a:pt x="22200" y="6611"/>
                  <a:pt x="22275" y="6598"/>
                </a:cubicBezTo>
              </a:path>
              <a:path w="596" h="422">
                <a:moveTo>
                  <a:pt x="22126" y="6375"/>
                </a:moveTo>
                <a:cubicBezTo>
                  <a:pt x="22126" y="6383"/>
                  <a:pt x="22126" y="6392"/>
                  <a:pt x="22126" y="6400"/>
                </a:cubicBezTo>
              </a:path>
              <a:path w="596" h="422">
                <a:moveTo>
                  <a:pt x="22175" y="6697"/>
                </a:moveTo>
                <a:lnTo>
                  <a:pt x="22175" y="6697"/>
                </a:lnTo>
                <a:lnTo>
                  <a:pt x="22175" y="6697"/>
                </a:lnTo>
              </a:path>
              <a:path w="596" h="422">
                <a:moveTo>
                  <a:pt x="22175" y="6697"/>
                </a:moveTo>
                <a:lnTo>
                  <a:pt x="22175" y="6697"/>
                </a:lnTo>
              </a:path>
              <a:path w="596" h="422">
                <a:moveTo>
                  <a:pt x="22423" y="6300"/>
                </a:moveTo>
                <a:cubicBezTo>
                  <a:pt x="22470" y="6294"/>
                  <a:pt x="22685" y="6251"/>
                  <a:pt x="22597" y="6375"/>
                </a:cubicBezTo>
                <a:cubicBezTo>
                  <a:pt x="22580" y="6391"/>
                  <a:pt x="22564" y="6408"/>
                  <a:pt x="22547" y="6424"/>
                </a:cubicBezTo>
                <a:cubicBezTo>
                  <a:pt x="22636" y="6442"/>
                  <a:pt x="22653" y="6497"/>
                  <a:pt x="22696" y="6573"/>
                </a:cubicBezTo>
                <a:cubicBezTo>
                  <a:pt x="22618" y="6625"/>
                  <a:pt x="22590" y="6643"/>
                  <a:pt x="22523" y="664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83360" y="2697120"/>
            <a:ext cx="223920" cy="169920"/>
          </a:xfrm>
          <a:custGeom>
            <a:avLst/>
            <a:gdLst/>
            <a:ahLst/>
            <a:rect l="l" t="t" r="r" b="b"/>
            <a:pathLst>
              <a:path w="622" h="472">
                <a:moveTo>
                  <a:pt x="22225" y="7615"/>
                </a:moveTo>
                <a:cubicBezTo>
                  <a:pt x="22260" y="7669"/>
                  <a:pt x="22309" y="7730"/>
                  <a:pt x="22324" y="7789"/>
                </a:cubicBezTo>
              </a:path>
              <a:path w="622" h="472">
                <a:moveTo>
                  <a:pt x="22349" y="7491"/>
                </a:moveTo>
                <a:cubicBezTo>
                  <a:pt x="22324" y="7516"/>
                  <a:pt x="22300" y="7540"/>
                  <a:pt x="22275" y="7565"/>
                </a:cubicBezTo>
              </a:path>
              <a:path w="622" h="472">
                <a:moveTo>
                  <a:pt x="22175" y="7764"/>
                </a:moveTo>
                <a:lnTo>
                  <a:pt x="22175" y="7764"/>
                </a:lnTo>
                <a:lnTo>
                  <a:pt x="22175" y="7764"/>
                </a:lnTo>
              </a:path>
              <a:path w="622" h="472">
                <a:moveTo>
                  <a:pt x="22175" y="7764"/>
                </a:moveTo>
                <a:lnTo>
                  <a:pt x="22175" y="7764"/>
                </a:lnTo>
              </a:path>
              <a:path w="622" h="472">
                <a:moveTo>
                  <a:pt x="22597" y="7615"/>
                </a:moveTo>
                <a:cubicBezTo>
                  <a:pt x="22611" y="7615"/>
                  <a:pt x="22790" y="7613"/>
                  <a:pt x="22771" y="7665"/>
                </a:cubicBezTo>
                <a:cubicBezTo>
                  <a:pt x="22721" y="7714"/>
                  <a:pt x="22704" y="7731"/>
                  <a:pt x="22671" y="7764"/>
                </a:cubicBezTo>
                <a:cubicBezTo>
                  <a:pt x="22756" y="7792"/>
                  <a:pt x="22881" y="7894"/>
                  <a:pt x="22721" y="7962"/>
                </a:cubicBezTo>
                <a:cubicBezTo>
                  <a:pt x="22607" y="7962"/>
                  <a:pt x="22561" y="7954"/>
                  <a:pt x="22498" y="788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4749840"/>
            <a:ext cx="214560" cy="198360"/>
          </a:xfrm>
          <a:custGeom>
            <a:avLst/>
            <a:gdLst/>
            <a:ahLst/>
            <a:rect l="l" t="t" r="r" b="b"/>
            <a:pathLst>
              <a:path w="597" h="547">
                <a:moveTo>
                  <a:pt x="3125" y="13320"/>
                </a:moveTo>
                <a:cubicBezTo>
                  <a:pt x="3227" y="13320"/>
                  <a:pt x="3321" y="13362"/>
                  <a:pt x="3423" y="13370"/>
                </a:cubicBezTo>
                <a:cubicBezTo>
                  <a:pt x="3547" y="13370"/>
                  <a:pt x="3572" y="13370"/>
                  <a:pt x="3646" y="13370"/>
                </a:cubicBezTo>
              </a:path>
              <a:path w="597" h="547">
                <a:moveTo>
                  <a:pt x="3324" y="13196"/>
                </a:moveTo>
                <a:cubicBezTo>
                  <a:pt x="3413" y="13214"/>
                  <a:pt x="3506" y="13249"/>
                  <a:pt x="3597" y="13271"/>
                </a:cubicBezTo>
                <a:cubicBezTo>
                  <a:pt x="3623" y="13277"/>
                  <a:pt x="3738" y="13301"/>
                  <a:pt x="3721" y="13345"/>
                </a:cubicBezTo>
                <a:cubicBezTo>
                  <a:pt x="3666" y="13483"/>
                  <a:pt x="3560" y="13591"/>
                  <a:pt x="3497" y="13717"/>
                </a:cubicBezTo>
                <a:cubicBezTo>
                  <a:pt x="3497" y="13725"/>
                  <a:pt x="3497" y="13734"/>
                  <a:pt x="3497" y="137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87680" y="4438800"/>
            <a:ext cx="447480" cy="687240"/>
          </a:xfrm>
          <a:custGeom>
            <a:avLst/>
            <a:gdLst/>
            <a:ahLst/>
            <a:rect l="l" t="t" r="r" b="b"/>
            <a:pathLst>
              <a:path w="1241" h="1911">
                <a:moveTo>
                  <a:pt x="5035" y="12477"/>
                </a:moveTo>
                <a:cubicBezTo>
                  <a:pt x="5056" y="12541"/>
                  <a:pt x="5109" y="12445"/>
                  <a:pt x="5159" y="12427"/>
                </a:cubicBezTo>
                <a:cubicBezTo>
                  <a:pt x="5315" y="12372"/>
                  <a:pt x="5337" y="12694"/>
                  <a:pt x="5283" y="12774"/>
                </a:cubicBezTo>
                <a:cubicBezTo>
                  <a:pt x="5156" y="12962"/>
                  <a:pt x="5011" y="12972"/>
                  <a:pt x="4812" y="12998"/>
                </a:cubicBezTo>
                <a:cubicBezTo>
                  <a:pt x="4871" y="12867"/>
                  <a:pt x="5019" y="12822"/>
                  <a:pt x="5184" y="12898"/>
                </a:cubicBezTo>
                <a:cubicBezTo>
                  <a:pt x="5226" y="12940"/>
                  <a:pt x="5234" y="12948"/>
                  <a:pt x="5259" y="12973"/>
                </a:cubicBezTo>
              </a:path>
              <a:path w="1241" h="1911">
                <a:moveTo>
                  <a:pt x="5854" y="12502"/>
                </a:moveTo>
                <a:cubicBezTo>
                  <a:pt x="5826" y="12378"/>
                  <a:pt x="5749" y="12290"/>
                  <a:pt x="5606" y="12353"/>
                </a:cubicBezTo>
                <a:cubicBezTo>
                  <a:pt x="5442" y="12426"/>
                  <a:pt x="5447" y="12751"/>
                  <a:pt x="5655" y="12725"/>
                </a:cubicBezTo>
                <a:cubicBezTo>
                  <a:pt x="5785" y="12708"/>
                  <a:pt x="5834" y="12573"/>
                  <a:pt x="5879" y="12477"/>
                </a:cubicBezTo>
                <a:cubicBezTo>
                  <a:pt x="5879" y="12630"/>
                  <a:pt x="5871" y="12801"/>
                  <a:pt x="5829" y="12948"/>
                </a:cubicBezTo>
                <a:cubicBezTo>
                  <a:pt x="5792" y="13021"/>
                  <a:pt x="5775" y="13026"/>
                  <a:pt x="5779" y="13072"/>
                </a:cubicBezTo>
              </a:path>
              <a:path w="1241" h="1911">
                <a:moveTo>
                  <a:pt x="4688" y="13271"/>
                </a:moveTo>
                <a:cubicBezTo>
                  <a:pt x="5003" y="13259"/>
                  <a:pt x="5315" y="13225"/>
                  <a:pt x="5631" y="13221"/>
                </a:cubicBezTo>
                <a:cubicBezTo>
                  <a:pt x="5785" y="13219"/>
                  <a:pt x="5807" y="13225"/>
                  <a:pt x="5928" y="13246"/>
                </a:cubicBezTo>
              </a:path>
              <a:path w="1241" h="1911">
                <a:moveTo>
                  <a:pt x="5383" y="13444"/>
                </a:moveTo>
                <a:cubicBezTo>
                  <a:pt x="5383" y="13628"/>
                  <a:pt x="5324" y="13763"/>
                  <a:pt x="5283" y="13940"/>
                </a:cubicBezTo>
                <a:cubicBezTo>
                  <a:pt x="5262" y="14073"/>
                  <a:pt x="5250" y="14107"/>
                  <a:pt x="5283" y="14188"/>
                </a:cubicBezTo>
                <a:cubicBezTo>
                  <a:pt x="5487" y="14256"/>
                  <a:pt x="5586" y="14204"/>
                  <a:pt x="5705" y="14015"/>
                </a:cubicBezTo>
                <a:cubicBezTo>
                  <a:pt x="5742" y="13941"/>
                  <a:pt x="5759" y="13937"/>
                  <a:pt x="5755" y="13891"/>
                </a:cubicBezTo>
                <a:cubicBezTo>
                  <a:pt x="5578" y="13902"/>
                  <a:pt x="5494" y="13912"/>
                  <a:pt x="5432" y="14089"/>
                </a:cubicBezTo>
                <a:cubicBezTo>
                  <a:pt x="5432" y="14140"/>
                  <a:pt x="5457" y="14142"/>
                  <a:pt x="5531" y="140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57280" y="4527720"/>
            <a:ext cx="563760" cy="580680"/>
          </a:xfrm>
          <a:custGeom>
            <a:avLst/>
            <a:gdLst/>
            <a:ahLst/>
            <a:rect l="l" t="t" r="r" b="b"/>
            <a:pathLst>
              <a:path w="1564" h="1613">
                <a:moveTo>
                  <a:pt x="6548" y="13295"/>
                </a:moveTo>
                <a:cubicBezTo>
                  <a:pt x="6714" y="13295"/>
                  <a:pt x="6879" y="13295"/>
                  <a:pt x="7045" y="13295"/>
                </a:cubicBezTo>
              </a:path>
              <a:path w="1564" h="1613">
                <a:moveTo>
                  <a:pt x="6772" y="12898"/>
                </a:moveTo>
                <a:cubicBezTo>
                  <a:pt x="6772" y="12931"/>
                  <a:pt x="6772" y="12948"/>
                  <a:pt x="6772" y="12973"/>
                </a:cubicBezTo>
              </a:path>
              <a:path w="1564" h="1613">
                <a:moveTo>
                  <a:pt x="6772" y="13618"/>
                </a:moveTo>
                <a:lnTo>
                  <a:pt x="6772" y="13618"/>
                </a:lnTo>
                <a:lnTo>
                  <a:pt x="6772" y="13618"/>
                </a:lnTo>
              </a:path>
              <a:path w="1564" h="1613">
                <a:moveTo>
                  <a:pt x="7665" y="12626"/>
                </a:moveTo>
                <a:cubicBezTo>
                  <a:pt x="7716" y="12557"/>
                  <a:pt x="7914" y="12538"/>
                  <a:pt x="7987" y="12626"/>
                </a:cubicBezTo>
                <a:cubicBezTo>
                  <a:pt x="8164" y="12837"/>
                  <a:pt x="7898" y="13037"/>
                  <a:pt x="7714" y="13072"/>
                </a:cubicBezTo>
                <a:cubicBezTo>
                  <a:pt x="7664" y="13072"/>
                  <a:pt x="7615" y="13072"/>
                  <a:pt x="7565" y="13072"/>
                </a:cubicBezTo>
                <a:cubicBezTo>
                  <a:pt x="7593" y="12921"/>
                  <a:pt x="7705" y="12889"/>
                  <a:pt x="7863" y="12948"/>
                </a:cubicBezTo>
                <a:cubicBezTo>
                  <a:pt x="7971" y="13013"/>
                  <a:pt x="7998" y="13027"/>
                  <a:pt x="8062" y="13072"/>
                </a:cubicBezTo>
              </a:path>
              <a:path w="1564" h="1613">
                <a:moveTo>
                  <a:pt x="7590" y="13370"/>
                </a:moveTo>
                <a:cubicBezTo>
                  <a:pt x="7755" y="13349"/>
                  <a:pt x="7960" y="13288"/>
                  <a:pt x="8111" y="13345"/>
                </a:cubicBezTo>
              </a:path>
              <a:path w="1564" h="1613">
                <a:moveTo>
                  <a:pt x="7466" y="13717"/>
                </a:moveTo>
                <a:cubicBezTo>
                  <a:pt x="7615" y="13702"/>
                  <a:pt x="7763" y="13635"/>
                  <a:pt x="7913" y="13692"/>
                </a:cubicBezTo>
                <a:cubicBezTo>
                  <a:pt x="8111" y="13767"/>
                  <a:pt x="7748" y="13924"/>
                  <a:pt x="7714" y="13940"/>
                </a:cubicBezTo>
                <a:cubicBezTo>
                  <a:pt x="7792" y="13940"/>
                  <a:pt x="7966" y="13902"/>
                  <a:pt x="7962" y="14015"/>
                </a:cubicBezTo>
                <a:cubicBezTo>
                  <a:pt x="7956" y="14162"/>
                  <a:pt x="7697" y="14163"/>
                  <a:pt x="7590" y="1418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5106960"/>
            <a:ext cx="2527200" cy="1090800"/>
          </a:xfrm>
          <a:custGeom>
            <a:avLst/>
            <a:gdLst/>
            <a:ahLst/>
            <a:rect l="l" t="t" r="r" b="b"/>
            <a:pathLst>
              <a:path w="7020" h="3027">
                <a:moveTo>
                  <a:pt x="5159" y="15032"/>
                </a:moveTo>
                <a:cubicBezTo>
                  <a:pt x="5232" y="14910"/>
                  <a:pt x="5417" y="14919"/>
                  <a:pt x="5482" y="15081"/>
                </a:cubicBezTo>
                <a:cubicBezTo>
                  <a:pt x="5587" y="15345"/>
                  <a:pt x="5285" y="15486"/>
                  <a:pt x="5110" y="15528"/>
                </a:cubicBezTo>
                <a:cubicBezTo>
                  <a:pt x="5145" y="15327"/>
                  <a:pt x="5239" y="15172"/>
                  <a:pt x="5482" y="15255"/>
                </a:cubicBezTo>
                <a:cubicBezTo>
                  <a:pt x="5547" y="15277"/>
                  <a:pt x="5609" y="15348"/>
                  <a:pt x="5631" y="15404"/>
                </a:cubicBezTo>
              </a:path>
              <a:path w="7020" h="3027">
                <a:moveTo>
                  <a:pt x="5879" y="14808"/>
                </a:moveTo>
                <a:cubicBezTo>
                  <a:pt x="5776" y="14922"/>
                  <a:pt x="5727" y="14980"/>
                  <a:pt x="5755" y="15131"/>
                </a:cubicBezTo>
                <a:cubicBezTo>
                  <a:pt x="5860" y="15068"/>
                  <a:pt x="5930" y="15021"/>
                  <a:pt x="5978" y="14908"/>
                </a:cubicBezTo>
                <a:cubicBezTo>
                  <a:pt x="6048" y="14930"/>
                  <a:pt x="6069" y="15154"/>
                  <a:pt x="6077" y="15230"/>
                </a:cubicBezTo>
                <a:cubicBezTo>
                  <a:pt x="6077" y="15324"/>
                  <a:pt x="6098" y="15345"/>
                  <a:pt x="6052" y="15379"/>
                </a:cubicBezTo>
              </a:path>
              <a:path w="7020" h="3027">
                <a:moveTo>
                  <a:pt x="5184" y="15652"/>
                </a:moveTo>
                <a:cubicBezTo>
                  <a:pt x="5504" y="15601"/>
                  <a:pt x="5781" y="15574"/>
                  <a:pt x="6102" y="15602"/>
                </a:cubicBezTo>
                <a:cubicBezTo>
                  <a:pt x="6119" y="15602"/>
                  <a:pt x="6135" y="15602"/>
                  <a:pt x="6152" y="15602"/>
                </a:cubicBezTo>
              </a:path>
              <a:path w="7020" h="3027">
                <a:moveTo>
                  <a:pt x="5680" y="15850"/>
                </a:moveTo>
                <a:cubicBezTo>
                  <a:pt x="5680" y="15978"/>
                  <a:pt x="5647" y="16073"/>
                  <a:pt x="5631" y="16197"/>
                </a:cubicBezTo>
                <a:cubicBezTo>
                  <a:pt x="5631" y="16265"/>
                  <a:pt x="5628" y="16284"/>
                  <a:pt x="5655" y="16321"/>
                </a:cubicBezTo>
                <a:cubicBezTo>
                  <a:pt x="5795" y="16341"/>
                  <a:pt x="5935" y="16332"/>
                  <a:pt x="6028" y="16197"/>
                </a:cubicBezTo>
                <a:cubicBezTo>
                  <a:pt x="6050" y="16130"/>
                  <a:pt x="6054" y="16112"/>
                  <a:pt x="6077" y="16073"/>
                </a:cubicBezTo>
                <a:cubicBezTo>
                  <a:pt x="6020" y="16088"/>
                  <a:pt x="5905" y="16109"/>
                  <a:pt x="5854" y="16148"/>
                </a:cubicBezTo>
                <a:cubicBezTo>
                  <a:pt x="5761" y="16220"/>
                  <a:pt x="5799" y="16321"/>
                  <a:pt x="5879" y="16321"/>
                </a:cubicBezTo>
              </a:path>
              <a:path w="7020" h="3027">
                <a:moveTo>
                  <a:pt x="6573" y="15503"/>
                </a:moveTo>
                <a:cubicBezTo>
                  <a:pt x="6656" y="15648"/>
                  <a:pt x="6817" y="15759"/>
                  <a:pt x="6945" y="15875"/>
                </a:cubicBezTo>
                <a:cubicBezTo>
                  <a:pt x="6990" y="15915"/>
                  <a:pt x="6995" y="15937"/>
                  <a:pt x="7045" y="15949"/>
                </a:cubicBezTo>
              </a:path>
              <a:path w="7020" h="3027">
                <a:moveTo>
                  <a:pt x="7045" y="15478"/>
                </a:moveTo>
                <a:cubicBezTo>
                  <a:pt x="7045" y="15358"/>
                  <a:pt x="6834" y="15662"/>
                  <a:pt x="6821" y="15677"/>
                </a:cubicBezTo>
                <a:cubicBezTo>
                  <a:pt x="6750" y="15756"/>
                  <a:pt x="6615" y="15977"/>
                  <a:pt x="6524" y="16024"/>
                </a:cubicBezTo>
              </a:path>
              <a:path w="7020" h="3027">
                <a:moveTo>
                  <a:pt x="7516" y="14957"/>
                </a:moveTo>
                <a:cubicBezTo>
                  <a:pt x="7611" y="14920"/>
                  <a:pt x="7646" y="14889"/>
                  <a:pt x="7764" y="14883"/>
                </a:cubicBezTo>
                <a:cubicBezTo>
                  <a:pt x="7880" y="14877"/>
                  <a:pt x="7703" y="15113"/>
                  <a:pt x="7689" y="15131"/>
                </a:cubicBezTo>
                <a:cubicBezTo>
                  <a:pt x="7673" y="15131"/>
                  <a:pt x="7656" y="15131"/>
                  <a:pt x="7640" y="15131"/>
                </a:cubicBezTo>
                <a:cubicBezTo>
                  <a:pt x="7711" y="15119"/>
                  <a:pt x="7903" y="15074"/>
                  <a:pt x="7938" y="15180"/>
                </a:cubicBezTo>
                <a:cubicBezTo>
                  <a:pt x="7993" y="15345"/>
                  <a:pt x="7722" y="15348"/>
                  <a:pt x="7640" y="15354"/>
                </a:cubicBezTo>
              </a:path>
              <a:path w="7020" h="3027">
                <a:moveTo>
                  <a:pt x="7466" y="15528"/>
                </a:moveTo>
                <a:cubicBezTo>
                  <a:pt x="7641" y="15521"/>
                  <a:pt x="7893" y="15450"/>
                  <a:pt x="8062" y="15503"/>
                </a:cubicBezTo>
                <a:cubicBezTo>
                  <a:pt x="8062" y="15528"/>
                  <a:pt x="8062" y="15536"/>
                  <a:pt x="8062" y="15553"/>
                </a:cubicBezTo>
              </a:path>
              <a:path w="7020" h="3027">
                <a:moveTo>
                  <a:pt x="7714" y="15925"/>
                </a:moveTo>
                <a:cubicBezTo>
                  <a:pt x="7778" y="15860"/>
                  <a:pt x="7890" y="15857"/>
                  <a:pt x="7987" y="15875"/>
                </a:cubicBezTo>
                <a:cubicBezTo>
                  <a:pt x="8013" y="15994"/>
                  <a:pt x="7960" y="16087"/>
                  <a:pt x="7838" y="16148"/>
                </a:cubicBezTo>
                <a:cubicBezTo>
                  <a:pt x="7805" y="16156"/>
                  <a:pt x="7772" y="16165"/>
                  <a:pt x="7739" y="16173"/>
                </a:cubicBezTo>
                <a:cubicBezTo>
                  <a:pt x="7777" y="16098"/>
                  <a:pt x="7900" y="16088"/>
                  <a:pt x="7987" y="16098"/>
                </a:cubicBezTo>
                <a:cubicBezTo>
                  <a:pt x="8071" y="16107"/>
                  <a:pt x="8095" y="16126"/>
                  <a:pt x="8111" y="16173"/>
                </a:cubicBezTo>
              </a:path>
              <a:path w="7020" h="3027">
                <a:moveTo>
                  <a:pt x="7962" y="14982"/>
                </a:moveTo>
                <a:cubicBezTo>
                  <a:pt x="8007" y="14893"/>
                  <a:pt x="8119" y="14946"/>
                  <a:pt x="8210" y="14932"/>
                </a:cubicBezTo>
                <a:cubicBezTo>
                  <a:pt x="8235" y="14924"/>
                  <a:pt x="8260" y="14916"/>
                  <a:pt x="8285" y="14908"/>
                </a:cubicBezTo>
              </a:path>
              <a:path w="7020" h="3027">
                <a:moveTo>
                  <a:pt x="8086" y="14734"/>
                </a:moveTo>
                <a:cubicBezTo>
                  <a:pt x="8094" y="14784"/>
                  <a:pt x="8103" y="14833"/>
                  <a:pt x="8111" y="14883"/>
                </a:cubicBezTo>
              </a:path>
              <a:path w="7020" h="3027">
                <a:moveTo>
                  <a:pt x="8111" y="15180"/>
                </a:moveTo>
                <a:cubicBezTo>
                  <a:pt x="8134" y="15158"/>
                  <a:pt x="8142" y="15153"/>
                  <a:pt x="8136" y="15131"/>
                </a:cubicBezTo>
              </a:path>
              <a:path w="7020" h="3027">
                <a:moveTo>
                  <a:pt x="8136" y="15131"/>
                </a:moveTo>
                <a:lnTo>
                  <a:pt x="8136" y="15131"/>
                </a:lnTo>
              </a:path>
              <a:path w="7020" h="3027">
                <a:moveTo>
                  <a:pt x="8508" y="14585"/>
                </a:moveTo>
                <a:cubicBezTo>
                  <a:pt x="8517" y="14559"/>
                  <a:pt x="8591" y="14510"/>
                  <a:pt x="8632" y="14536"/>
                </a:cubicBezTo>
                <a:cubicBezTo>
                  <a:pt x="8678" y="14566"/>
                  <a:pt x="8581" y="14683"/>
                  <a:pt x="8582" y="14684"/>
                </a:cubicBezTo>
                <a:cubicBezTo>
                  <a:pt x="8710" y="14697"/>
                  <a:pt x="8826" y="14733"/>
                  <a:pt x="8706" y="14883"/>
                </a:cubicBezTo>
                <a:cubicBezTo>
                  <a:pt x="8622" y="14938"/>
                  <a:pt x="8586" y="14955"/>
                  <a:pt x="8508" y="14932"/>
                </a:cubicBezTo>
              </a:path>
              <a:path w="7020" h="3027">
                <a:moveTo>
                  <a:pt x="6176" y="16272"/>
                </a:moveTo>
                <a:cubicBezTo>
                  <a:pt x="6261" y="16272"/>
                  <a:pt x="6339" y="16293"/>
                  <a:pt x="6424" y="16297"/>
                </a:cubicBezTo>
                <a:cubicBezTo>
                  <a:pt x="6466" y="16297"/>
                  <a:pt x="6474" y="16297"/>
                  <a:pt x="6499" y="16297"/>
                </a:cubicBezTo>
              </a:path>
              <a:path w="7020" h="3027">
                <a:moveTo>
                  <a:pt x="6276" y="16024"/>
                </a:moveTo>
                <a:cubicBezTo>
                  <a:pt x="6276" y="16057"/>
                  <a:pt x="6276" y="16073"/>
                  <a:pt x="6276" y="16098"/>
                </a:cubicBezTo>
              </a:path>
              <a:path w="7020" h="3027">
                <a:moveTo>
                  <a:pt x="6350" y="16520"/>
                </a:moveTo>
                <a:lnTo>
                  <a:pt x="6350" y="16520"/>
                </a:lnTo>
              </a:path>
              <a:path w="7020" h="3027">
                <a:moveTo>
                  <a:pt x="6573" y="16222"/>
                </a:moveTo>
                <a:cubicBezTo>
                  <a:pt x="6583" y="16192"/>
                  <a:pt x="6695" y="16166"/>
                  <a:pt x="6722" y="16197"/>
                </a:cubicBezTo>
                <a:cubicBezTo>
                  <a:pt x="6763" y="16243"/>
                  <a:pt x="6701" y="16332"/>
                  <a:pt x="6672" y="16346"/>
                </a:cubicBezTo>
                <a:cubicBezTo>
                  <a:pt x="6722" y="16346"/>
                  <a:pt x="6771" y="16346"/>
                  <a:pt x="6821" y="16346"/>
                </a:cubicBezTo>
                <a:cubicBezTo>
                  <a:pt x="6842" y="16421"/>
                  <a:pt x="6801" y="16569"/>
                  <a:pt x="6672" y="16545"/>
                </a:cubicBezTo>
                <a:cubicBezTo>
                  <a:pt x="6647" y="16528"/>
                  <a:pt x="6623" y="16512"/>
                  <a:pt x="6598" y="16495"/>
                </a:cubicBezTo>
              </a:path>
              <a:path w="7020" h="3027">
                <a:moveTo>
                  <a:pt x="7392" y="15379"/>
                </a:moveTo>
                <a:cubicBezTo>
                  <a:pt x="7667" y="15118"/>
                  <a:pt x="7958" y="14950"/>
                  <a:pt x="8285" y="14759"/>
                </a:cubicBezTo>
                <a:cubicBezTo>
                  <a:pt x="8470" y="14651"/>
                  <a:pt x="8655" y="14533"/>
                  <a:pt x="8855" y="14461"/>
                </a:cubicBezTo>
                <a:cubicBezTo>
                  <a:pt x="8863" y="14461"/>
                  <a:pt x="8872" y="14461"/>
                  <a:pt x="8880" y="14461"/>
                </a:cubicBezTo>
              </a:path>
              <a:path w="7020" h="3027">
                <a:moveTo>
                  <a:pt x="9128" y="14684"/>
                </a:moveTo>
                <a:cubicBezTo>
                  <a:pt x="9128" y="14845"/>
                  <a:pt x="9065" y="15000"/>
                  <a:pt x="9029" y="15156"/>
                </a:cubicBezTo>
                <a:cubicBezTo>
                  <a:pt x="9011" y="15247"/>
                  <a:pt x="9002" y="15254"/>
                  <a:pt x="9004" y="15304"/>
                </a:cubicBezTo>
              </a:path>
              <a:path w="7020" h="3027">
                <a:moveTo>
                  <a:pt x="5531" y="15999"/>
                </a:moveTo>
                <a:cubicBezTo>
                  <a:pt x="5531" y="16024"/>
                  <a:pt x="5531" y="16048"/>
                  <a:pt x="5531" y="16073"/>
                </a:cubicBezTo>
                <a:cubicBezTo>
                  <a:pt x="5636" y="16081"/>
                  <a:pt x="5752" y="16092"/>
                  <a:pt x="5854" y="16123"/>
                </a:cubicBezTo>
                <a:cubicBezTo>
                  <a:pt x="6129" y="16207"/>
                  <a:pt x="6399" y="16327"/>
                  <a:pt x="6672" y="16421"/>
                </a:cubicBezTo>
                <a:cubicBezTo>
                  <a:pt x="6769" y="16454"/>
                  <a:pt x="6879" y="16464"/>
                  <a:pt x="6970" y="16495"/>
                </a:cubicBezTo>
                <a:cubicBezTo>
                  <a:pt x="6994" y="16503"/>
                  <a:pt x="6952" y="16502"/>
                  <a:pt x="6970" y="16520"/>
                </a:cubicBezTo>
              </a:path>
              <a:path w="7020" h="3027">
                <a:moveTo>
                  <a:pt x="4961" y="16024"/>
                </a:moveTo>
                <a:cubicBezTo>
                  <a:pt x="5020" y="16063"/>
                  <a:pt x="5138" y="16086"/>
                  <a:pt x="5184" y="16123"/>
                </a:cubicBezTo>
                <a:cubicBezTo>
                  <a:pt x="5284" y="16202"/>
                  <a:pt x="5043" y="16413"/>
                  <a:pt x="5011" y="16470"/>
                </a:cubicBezTo>
                <a:cubicBezTo>
                  <a:pt x="4983" y="16519"/>
                  <a:pt x="4966" y="16649"/>
                  <a:pt x="4936" y="16619"/>
                </a:cubicBezTo>
                <a:cubicBezTo>
                  <a:pt x="5048" y="16539"/>
                  <a:pt x="5165" y="16481"/>
                  <a:pt x="5308" y="16495"/>
                </a:cubicBezTo>
                <a:cubicBezTo>
                  <a:pt x="5424" y="16507"/>
                  <a:pt x="5414" y="16535"/>
                  <a:pt x="5531" y="16470"/>
                </a:cubicBezTo>
              </a:path>
              <a:path w="7020" h="3027">
                <a:moveTo>
                  <a:pt x="5060" y="16197"/>
                </a:moveTo>
                <a:cubicBezTo>
                  <a:pt x="5060" y="16159"/>
                  <a:pt x="5076" y="16094"/>
                  <a:pt x="5035" y="16073"/>
                </a:cubicBezTo>
                <a:cubicBezTo>
                  <a:pt x="4986" y="16048"/>
                  <a:pt x="4969" y="16108"/>
                  <a:pt x="4936" y="16123"/>
                </a:cubicBezTo>
                <a:cubicBezTo>
                  <a:pt x="4888" y="16144"/>
                  <a:pt x="4870" y="16119"/>
                  <a:pt x="4862" y="16197"/>
                </a:cubicBezTo>
                <a:cubicBezTo>
                  <a:pt x="4862" y="16222"/>
                  <a:pt x="4862" y="16230"/>
                  <a:pt x="4862" y="16197"/>
                </a:cubicBezTo>
              </a:path>
              <a:path w="7020" h="3027">
                <a:moveTo>
                  <a:pt x="9500" y="15528"/>
                </a:moveTo>
                <a:cubicBezTo>
                  <a:pt x="9517" y="15477"/>
                  <a:pt x="9668" y="15460"/>
                  <a:pt x="9723" y="15453"/>
                </a:cubicBezTo>
                <a:cubicBezTo>
                  <a:pt x="9781" y="15453"/>
                  <a:pt x="9790" y="15453"/>
                  <a:pt x="9823" y="15453"/>
                </a:cubicBezTo>
              </a:path>
              <a:path w="7020" h="3027">
                <a:moveTo>
                  <a:pt x="9525" y="15701"/>
                </a:moveTo>
                <a:cubicBezTo>
                  <a:pt x="9614" y="15679"/>
                  <a:pt x="9706" y="15660"/>
                  <a:pt x="9798" y="15652"/>
                </a:cubicBezTo>
                <a:cubicBezTo>
                  <a:pt x="9806" y="15652"/>
                  <a:pt x="9815" y="15652"/>
                  <a:pt x="9823" y="15652"/>
                </a:cubicBezTo>
              </a:path>
              <a:path w="7020" h="3027">
                <a:moveTo>
                  <a:pt x="6350" y="14784"/>
                </a:moveTo>
                <a:cubicBezTo>
                  <a:pt x="6454" y="14655"/>
                  <a:pt x="6531" y="14600"/>
                  <a:pt x="6672" y="14511"/>
                </a:cubicBezTo>
                <a:cubicBezTo>
                  <a:pt x="6857" y="14394"/>
                  <a:pt x="7011" y="14349"/>
                  <a:pt x="7218" y="14288"/>
                </a:cubicBezTo>
                <a:cubicBezTo>
                  <a:pt x="7392" y="14237"/>
                  <a:pt x="7558" y="14200"/>
                  <a:pt x="7739" y="14188"/>
                </a:cubicBezTo>
                <a:cubicBezTo>
                  <a:pt x="7916" y="14176"/>
                  <a:pt x="8087" y="14200"/>
                  <a:pt x="8260" y="14213"/>
                </a:cubicBezTo>
                <a:cubicBezTo>
                  <a:pt x="8393" y="14223"/>
                  <a:pt x="8462" y="14216"/>
                  <a:pt x="8582" y="14263"/>
                </a:cubicBezTo>
                <a:cubicBezTo>
                  <a:pt x="8654" y="14291"/>
                  <a:pt x="8763" y="14313"/>
                  <a:pt x="8806" y="14387"/>
                </a:cubicBezTo>
                <a:cubicBezTo>
                  <a:pt x="8841" y="14447"/>
                  <a:pt x="8863" y="14561"/>
                  <a:pt x="8905" y="14610"/>
                </a:cubicBezTo>
                <a:cubicBezTo>
                  <a:pt x="8913" y="14610"/>
                  <a:pt x="8922" y="14610"/>
                  <a:pt x="8930" y="14610"/>
                </a:cubicBezTo>
              </a:path>
              <a:path w="7020" h="3027">
                <a:moveTo>
                  <a:pt x="10939" y="14858"/>
                </a:moveTo>
                <a:cubicBezTo>
                  <a:pt x="10939" y="14832"/>
                  <a:pt x="10893" y="14862"/>
                  <a:pt x="10914" y="14833"/>
                </a:cubicBezTo>
                <a:cubicBezTo>
                  <a:pt x="10979" y="14740"/>
                  <a:pt x="11020" y="14751"/>
                  <a:pt x="11112" y="14759"/>
                </a:cubicBezTo>
                <a:cubicBezTo>
                  <a:pt x="11247" y="14997"/>
                  <a:pt x="11155" y="15229"/>
                  <a:pt x="10914" y="15404"/>
                </a:cubicBezTo>
                <a:cubicBezTo>
                  <a:pt x="10807" y="15439"/>
                  <a:pt x="10801" y="15456"/>
                  <a:pt x="10740" y="15453"/>
                </a:cubicBezTo>
                <a:cubicBezTo>
                  <a:pt x="10777" y="15306"/>
                  <a:pt x="10881" y="15137"/>
                  <a:pt x="11063" y="15280"/>
                </a:cubicBezTo>
                <a:cubicBezTo>
                  <a:pt x="11154" y="15351"/>
                  <a:pt x="11125" y="15379"/>
                  <a:pt x="11212" y="15429"/>
                </a:cubicBezTo>
              </a:path>
              <a:path w="7020" h="3027">
                <a:moveTo>
                  <a:pt x="11683" y="14858"/>
                </a:moveTo>
                <a:cubicBezTo>
                  <a:pt x="11532" y="14708"/>
                  <a:pt x="11452" y="14849"/>
                  <a:pt x="11385" y="15032"/>
                </a:cubicBezTo>
                <a:cubicBezTo>
                  <a:pt x="11365" y="15137"/>
                  <a:pt x="11343" y="15165"/>
                  <a:pt x="11410" y="15205"/>
                </a:cubicBezTo>
                <a:cubicBezTo>
                  <a:pt x="11569" y="15093"/>
                  <a:pt x="11659" y="15002"/>
                  <a:pt x="11708" y="14808"/>
                </a:cubicBezTo>
                <a:cubicBezTo>
                  <a:pt x="11708" y="14953"/>
                  <a:pt x="11678" y="15113"/>
                  <a:pt x="11658" y="15255"/>
                </a:cubicBezTo>
                <a:cubicBezTo>
                  <a:pt x="11639" y="15370"/>
                  <a:pt x="11630" y="15386"/>
                  <a:pt x="11633" y="15453"/>
                </a:cubicBezTo>
              </a:path>
              <a:path w="7020" h="3027">
                <a:moveTo>
                  <a:pt x="10542" y="15776"/>
                </a:moveTo>
                <a:cubicBezTo>
                  <a:pt x="10535" y="15746"/>
                  <a:pt x="10524" y="15731"/>
                  <a:pt x="10517" y="15701"/>
                </a:cubicBezTo>
                <a:cubicBezTo>
                  <a:pt x="10673" y="15671"/>
                  <a:pt x="10852" y="15645"/>
                  <a:pt x="11013" y="15627"/>
                </a:cubicBezTo>
                <a:cubicBezTo>
                  <a:pt x="11302" y="15595"/>
                  <a:pt x="11591" y="15545"/>
                  <a:pt x="11881" y="15528"/>
                </a:cubicBezTo>
              </a:path>
              <a:path w="7020" h="3027">
                <a:moveTo>
                  <a:pt x="5457" y="16644"/>
                </a:moveTo>
                <a:cubicBezTo>
                  <a:pt x="5523" y="16755"/>
                  <a:pt x="5601" y="16901"/>
                  <a:pt x="5705" y="16991"/>
                </a:cubicBezTo>
                <a:cubicBezTo>
                  <a:pt x="5919" y="17176"/>
                  <a:pt x="6226" y="17217"/>
                  <a:pt x="6499" y="17214"/>
                </a:cubicBezTo>
                <a:cubicBezTo>
                  <a:pt x="6782" y="17211"/>
                  <a:pt x="7148" y="17161"/>
                  <a:pt x="7417" y="17066"/>
                </a:cubicBezTo>
                <a:cubicBezTo>
                  <a:pt x="7532" y="17025"/>
                  <a:pt x="7765" y="16864"/>
                  <a:pt x="7813" y="16743"/>
                </a:cubicBezTo>
                <a:cubicBezTo>
                  <a:pt x="7831" y="16697"/>
                  <a:pt x="7814" y="16674"/>
                  <a:pt x="7838" y="16644"/>
                </a:cubicBezTo>
                <a:cubicBezTo>
                  <a:pt x="7846" y="16636"/>
                  <a:pt x="7855" y="16627"/>
                  <a:pt x="7863" y="16619"/>
                </a:cubicBezTo>
              </a:path>
              <a:path w="7020" h="3027">
                <a:moveTo>
                  <a:pt x="11088" y="15949"/>
                </a:moveTo>
                <a:cubicBezTo>
                  <a:pt x="11088" y="15941"/>
                  <a:pt x="11088" y="15933"/>
                  <a:pt x="11088" y="15925"/>
                </a:cubicBezTo>
                <a:cubicBezTo>
                  <a:pt x="11156" y="15948"/>
                  <a:pt x="11067" y="16057"/>
                  <a:pt x="11038" y="16098"/>
                </a:cubicBezTo>
                <a:cubicBezTo>
                  <a:pt x="11030" y="16106"/>
                  <a:pt x="11021" y="16115"/>
                  <a:pt x="11013" y="16123"/>
                </a:cubicBezTo>
                <a:cubicBezTo>
                  <a:pt x="11140" y="16109"/>
                  <a:pt x="11257" y="16063"/>
                  <a:pt x="11385" y="16049"/>
                </a:cubicBezTo>
              </a:path>
              <a:path w="7020" h="3027">
                <a:moveTo>
                  <a:pt x="11410" y="15776"/>
                </a:moveTo>
                <a:cubicBezTo>
                  <a:pt x="11410" y="15927"/>
                  <a:pt x="11384" y="16073"/>
                  <a:pt x="11361" y="16222"/>
                </a:cubicBezTo>
                <a:cubicBezTo>
                  <a:pt x="11346" y="16318"/>
                  <a:pt x="11336" y="16379"/>
                  <a:pt x="11336" y="1647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40200" y="4983120"/>
            <a:ext cx="928800" cy="1357200"/>
          </a:xfrm>
          <a:custGeom>
            <a:avLst/>
            <a:gdLst/>
            <a:ahLst/>
            <a:rect l="l" t="t" r="r" b="b"/>
            <a:pathLst>
              <a:path w="2581" h="3771">
                <a:moveTo>
                  <a:pt x="14883" y="15180"/>
                </a:moveTo>
                <a:cubicBezTo>
                  <a:pt x="14937" y="15163"/>
                  <a:pt x="14911" y="15165"/>
                  <a:pt x="14858" y="15280"/>
                </a:cubicBezTo>
                <a:cubicBezTo>
                  <a:pt x="14790" y="15435"/>
                  <a:pt x="14851" y="15247"/>
                  <a:pt x="14883" y="15205"/>
                </a:cubicBezTo>
                <a:cubicBezTo>
                  <a:pt x="15070" y="14961"/>
                  <a:pt x="15171" y="15236"/>
                  <a:pt x="15106" y="15429"/>
                </a:cubicBezTo>
                <a:cubicBezTo>
                  <a:pt x="15017" y="15694"/>
                  <a:pt x="14809" y="15897"/>
                  <a:pt x="14560" y="15850"/>
                </a:cubicBezTo>
                <a:cubicBezTo>
                  <a:pt x="14716" y="15694"/>
                  <a:pt x="14929" y="15439"/>
                  <a:pt x="15081" y="15751"/>
                </a:cubicBezTo>
                <a:cubicBezTo>
                  <a:pt x="15125" y="15841"/>
                  <a:pt x="15069" y="15995"/>
                  <a:pt x="15131" y="15850"/>
                </a:cubicBezTo>
              </a:path>
              <a:path w="2581" h="3771">
                <a:moveTo>
                  <a:pt x="15801" y="15379"/>
                </a:moveTo>
                <a:cubicBezTo>
                  <a:pt x="15801" y="15261"/>
                  <a:pt x="15813" y="15188"/>
                  <a:pt x="15726" y="15081"/>
                </a:cubicBezTo>
                <a:cubicBezTo>
                  <a:pt x="15511" y="14816"/>
                  <a:pt x="15369" y="15045"/>
                  <a:pt x="15329" y="15280"/>
                </a:cubicBezTo>
                <a:cubicBezTo>
                  <a:pt x="15329" y="15330"/>
                  <a:pt x="15329" y="15379"/>
                  <a:pt x="15329" y="15429"/>
                </a:cubicBezTo>
                <a:cubicBezTo>
                  <a:pt x="15575" y="15416"/>
                  <a:pt x="15622" y="15321"/>
                  <a:pt x="15701" y="15081"/>
                </a:cubicBezTo>
                <a:cubicBezTo>
                  <a:pt x="15746" y="15192"/>
                  <a:pt x="15677" y="15513"/>
                  <a:pt x="15652" y="15677"/>
                </a:cubicBezTo>
                <a:cubicBezTo>
                  <a:pt x="15627" y="15841"/>
                  <a:pt x="15647" y="15848"/>
                  <a:pt x="15528" y="15801"/>
                </a:cubicBezTo>
              </a:path>
              <a:path w="2581" h="3771">
                <a:moveTo>
                  <a:pt x="14412" y="16098"/>
                </a:moveTo>
                <a:cubicBezTo>
                  <a:pt x="14321" y="15919"/>
                  <a:pt x="14350" y="15750"/>
                  <a:pt x="14337" y="15553"/>
                </a:cubicBezTo>
                <a:cubicBezTo>
                  <a:pt x="14327" y="15392"/>
                  <a:pt x="14243" y="15122"/>
                  <a:pt x="14288" y="14957"/>
                </a:cubicBezTo>
                <a:cubicBezTo>
                  <a:pt x="14327" y="14813"/>
                  <a:pt x="15005" y="14842"/>
                  <a:pt x="15081" y="14833"/>
                </a:cubicBezTo>
                <a:cubicBezTo>
                  <a:pt x="15393" y="14797"/>
                  <a:pt x="15692" y="14761"/>
                  <a:pt x="15999" y="14808"/>
                </a:cubicBezTo>
                <a:cubicBezTo>
                  <a:pt x="16007" y="14808"/>
                  <a:pt x="16016" y="14808"/>
                  <a:pt x="16024" y="14808"/>
                </a:cubicBezTo>
              </a:path>
              <a:path w="2581" h="3771">
                <a:moveTo>
                  <a:pt x="13543" y="15180"/>
                </a:moveTo>
                <a:cubicBezTo>
                  <a:pt x="13532" y="15322"/>
                  <a:pt x="13490" y="15426"/>
                  <a:pt x="13444" y="15553"/>
                </a:cubicBezTo>
                <a:cubicBezTo>
                  <a:pt x="13444" y="15561"/>
                  <a:pt x="13444" y="15569"/>
                  <a:pt x="13444" y="15577"/>
                </a:cubicBezTo>
                <a:cubicBezTo>
                  <a:pt x="13571" y="15544"/>
                  <a:pt x="13759" y="15525"/>
                  <a:pt x="13866" y="15453"/>
                </a:cubicBezTo>
                <a:cubicBezTo>
                  <a:pt x="13833" y="15453"/>
                  <a:pt x="13816" y="15453"/>
                  <a:pt x="13791" y="15453"/>
                </a:cubicBezTo>
              </a:path>
              <a:path w="2581" h="3771">
                <a:moveTo>
                  <a:pt x="13717" y="14957"/>
                </a:moveTo>
                <a:cubicBezTo>
                  <a:pt x="13681" y="14933"/>
                  <a:pt x="13649" y="14984"/>
                  <a:pt x="13643" y="15056"/>
                </a:cubicBezTo>
                <a:cubicBezTo>
                  <a:pt x="13620" y="15316"/>
                  <a:pt x="13625" y="15588"/>
                  <a:pt x="13618" y="15850"/>
                </a:cubicBezTo>
                <a:cubicBezTo>
                  <a:pt x="13618" y="15892"/>
                  <a:pt x="13618" y="15900"/>
                  <a:pt x="13618" y="15925"/>
                </a:cubicBezTo>
              </a:path>
              <a:path w="2581" h="3771">
                <a:moveTo>
                  <a:pt x="15304" y="14089"/>
                </a:moveTo>
                <a:cubicBezTo>
                  <a:pt x="15246" y="14089"/>
                  <a:pt x="15292" y="14001"/>
                  <a:pt x="15304" y="13915"/>
                </a:cubicBezTo>
                <a:cubicBezTo>
                  <a:pt x="15433" y="13915"/>
                  <a:pt x="15490" y="13903"/>
                  <a:pt x="15602" y="13841"/>
                </a:cubicBezTo>
                <a:cubicBezTo>
                  <a:pt x="15677" y="13866"/>
                  <a:pt x="15532" y="14176"/>
                  <a:pt x="15528" y="14188"/>
                </a:cubicBezTo>
                <a:cubicBezTo>
                  <a:pt x="15490" y="14322"/>
                  <a:pt x="15492" y="14343"/>
                  <a:pt x="15453" y="14412"/>
                </a:cubicBezTo>
              </a:path>
              <a:path w="2581" h="3771">
                <a:moveTo>
                  <a:pt x="14957" y="16049"/>
                </a:moveTo>
                <a:cubicBezTo>
                  <a:pt x="14957" y="15964"/>
                  <a:pt x="14926" y="16164"/>
                  <a:pt x="14908" y="16247"/>
                </a:cubicBezTo>
                <a:cubicBezTo>
                  <a:pt x="14908" y="16283"/>
                  <a:pt x="14959" y="16111"/>
                  <a:pt x="15007" y="16073"/>
                </a:cubicBezTo>
                <a:cubicBezTo>
                  <a:pt x="15032" y="16065"/>
                  <a:pt x="15056" y="16057"/>
                  <a:pt x="15081" y="16049"/>
                </a:cubicBezTo>
                <a:cubicBezTo>
                  <a:pt x="15178" y="16283"/>
                  <a:pt x="15155" y="16441"/>
                  <a:pt x="14982" y="16644"/>
                </a:cubicBezTo>
                <a:cubicBezTo>
                  <a:pt x="14895" y="16746"/>
                  <a:pt x="14889" y="16690"/>
                  <a:pt x="14858" y="16619"/>
                </a:cubicBezTo>
                <a:cubicBezTo>
                  <a:pt x="14927" y="16516"/>
                  <a:pt x="15038" y="16516"/>
                  <a:pt x="15131" y="16644"/>
                </a:cubicBezTo>
                <a:cubicBezTo>
                  <a:pt x="15201" y="16740"/>
                  <a:pt x="15107" y="16735"/>
                  <a:pt x="15205" y="16768"/>
                </a:cubicBezTo>
              </a:path>
              <a:path w="2581" h="3771">
                <a:moveTo>
                  <a:pt x="15602" y="15999"/>
                </a:moveTo>
                <a:cubicBezTo>
                  <a:pt x="15576" y="16018"/>
                  <a:pt x="15294" y="16199"/>
                  <a:pt x="15354" y="16272"/>
                </a:cubicBezTo>
                <a:cubicBezTo>
                  <a:pt x="15466" y="16407"/>
                  <a:pt x="15567" y="16372"/>
                  <a:pt x="15553" y="16570"/>
                </a:cubicBezTo>
                <a:cubicBezTo>
                  <a:pt x="15497" y="16597"/>
                  <a:pt x="15475" y="16605"/>
                  <a:pt x="15429" y="16594"/>
                </a:cubicBezTo>
                <a:cubicBezTo>
                  <a:pt x="15446" y="16401"/>
                  <a:pt x="15565" y="16320"/>
                  <a:pt x="15627" y="16148"/>
                </a:cubicBezTo>
                <a:cubicBezTo>
                  <a:pt x="15697" y="15954"/>
                  <a:pt x="15445" y="16121"/>
                  <a:pt x="15404" y="16148"/>
                </a:cubicBezTo>
              </a:path>
              <a:path w="2581" h="3771">
                <a:moveTo>
                  <a:pt x="14436" y="16520"/>
                </a:moveTo>
                <a:cubicBezTo>
                  <a:pt x="14520" y="16514"/>
                  <a:pt x="14600" y="16502"/>
                  <a:pt x="14684" y="16495"/>
                </a:cubicBezTo>
              </a:path>
              <a:path w="2581" h="3771">
                <a:moveTo>
                  <a:pt x="14511" y="17016"/>
                </a:moveTo>
                <a:cubicBezTo>
                  <a:pt x="14871" y="16957"/>
                  <a:pt x="15237" y="16895"/>
                  <a:pt x="15602" y="16867"/>
                </a:cubicBezTo>
                <a:cubicBezTo>
                  <a:pt x="15693" y="16867"/>
                  <a:pt x="15701" y="16867"/>
                  <a:pt x="15751" y="16867"/>
                </a:cubicBezTo>
              </a:path>
              <a:path w="2581" h="3771">
                <a:moveTo>
                  <a:pt x="15528" y="17214"/>
                </a:moveTo>
                <a:cubicBezTo>
                  <a:pt x="15528" y="17347"/>
                  <a:pt x="15516" y="17430"/>
                  <a:pt x="15503" y="17562"/>
                </a:cubicBezTo>
                <a:cubicBezTo>
                  <a:pt x="15503" y="17578"/>
                  <a:pt x="15503" y="17595"/>
                  <a:pt x="15503" y="176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3120" y="4786200"/>
            <a:ext cx="1544760" cy="1036800"/>
          </a:xfrm>
          <a:custGeom>
            <a:avLst/>
            <a:gdLst/>
            <a:ahLst/>
            <a:rect l="l" t="t" r="r" b="b"/>
            <a:pathLst>
              <a:path w="4293" h="2879">
                <a:moveTo>
                  <a:pt x="17090" y="14957"/>
                </a:moveTo>
                <a:cubicBezTo>
                  <a:pt x="17209" y="14972"/>
                  <a:pt x="17317" y="14982"/>
                  <a:pt x="17438" y="14982"/>
                </a:cubicBezTo>
              </a:path>
              <a:path w="4293" h="2879">
                <a:moveTo>
                  <a:pt x="17090" y="15255"/>
                </a:moveTo>
                <a:cubicBezTo>
                  <a:pt x="17212" y="15262"/>
                  <a:pt x="17358" y="15260"/>
                  <a:pt x="17462" y="15304"/>
                </a:cubicBezTo>
              </a:path>
              <a:path w="4293" h="2879">
                <a:moveTo>
                  <a:pt x="18157" y="14560"/>
                </a:moveTo>
                <a:cubicBezTo>
                  <a:pt x="18201" y="14575"/>
                  <a:pt x="18181" y="14526"/>
                  <a:pt x="18256" y="14436"/>
                </a:cubicBezTo>
                <a:cubicBezTo>
                  <a:pt x="18387" y="14278"/>
                  <a:pt x="18600" y="14406"/>
                  <a:pt x="18777" y="14362"/>
                </a:cubicBezTo>
                <a:cubicBezTo>
                  <a:pt x="18836" y="14322"/>
                  <a:pt x="18848" y="14319"/>
                  <a:pt x="18876" y="14288"/>
                </a:cubicBezTo>
                <a:cubicBezTo>
                  <a:pt x="18813" y="14622"/>
                  <a:pt x="18670" y="14935"/>
                  <a:pt x="18554" y="15255"/>
                </a:cubicBezTo>
                <a:cubicBezTo>
                  <a:pt x="18483" y="15450"/>
                  <a:pt x="18465" y="15509"/>
                  <a:pt x="18604" y="15329"/>
                </a:cubicBezTo>
              </a:path>
              <a:path w="4293" h="2879">
                <a:moveTo>
                  <a:pt x="20191" y="13791"/>
                </a:moveTo>
                <a:cubicBezTo>
                  <a:pt x="20214" y="13954"/>
                  <a:pt x="20208" y="14160"/>
                  <a:pt x="20191" y="14337"/>
                </a:cubicBezTo>
                <a:cubicBezTo>
                  <a:pt x="20171" y="14438"/>
                  <a:pt x="20173" y="14458"/>
                  <a:pt x="20141" y="14511"/>
                </a:cubicBezTo>
              </a:path>
              <a:path w="4293" h="2879">
                <a:moveTo>
                  <a:pt x="19794" y="14635"/>
                </a:moveTo>
                <a:cubicBezTo>
                  <a:pt x="20043" y="14585"/>
                  <a:pt x="20288" y="14511"/>
                  <a:pt x="20538" y="14486"/>
                </a:cubicBezTo>
                <a:cubicBezTo>
                  <a:pt x="20596" y="14486"/>
                  <a:pt x="20585" y="14512"/>
                  <a:pt x="20489" y="14585"/>
                </a:cubicBezTo>
              </a:path>
              <a:path w="4293" h="2879">
                <a:moveTo>
                  <a:pt x="19968" y="14957"/>
                </a:moveTo>
                <a:cubicBezTo>
                  <a:pt x="19968" y="15037"/>
                  <a:pt x="19932" y="15107"/>
                  <a:pt x="19918" y="15180"/>
                </a:cubicBezTo>
                <a:cubicBezTo>
                  <a:pt x="19918" y="15197"/>
                  <a:pt x="19918" y="15213"/>
                  <a:pt x="19918" y="15230"/>
                </a:cubicBezTo>
                <a:cubicBezTo>
                  <a:pt x="19964" y="15219"/>
                  <a:pt x="20305" y="15161"/>
                  <a:pt x="20315" y="15131"/>
                </a:cubicBezTo>
                <a:cubicBezTo>
                  <a:pt x="20307" y="15123"/>
                  <a:pt x="20298" y="15114"/>
                  <a:pt x="20290" y="15106"/>
                </a:cubicBezTo>
              </a:path>
              <a:path w="4293" h="2879">
                <a:moveTo>
                  <a:pt x="20216" y="14833"/>
                </a:moveTo>
                <a:cubicBezTo>
                  <a:pt x="20216" y="15028"/>
                  <a:pt x="20214" y="15236"/>
                  <a:pt x="20191" y="15429"/>
                </a:cubicBezTo>
                <a:cubicBezTo>
                  <a:pt x="20183" y="15496"/>
                  <a:pt x="20166" y="15519"/>
                  <a:pt x="20166" y="15577"/>
                </a:cubicBezTo>
              </a:path>
              <a:path w="4293" h="2879">
                <a:moveTo>
                  <a:pt x="18107" y="16024"/>
                </a:moveTo>
                <a:cubicBezTo>
                  <a:pt x="18342" y="16069"/>
                  <a:pt x="18587" y="16086"/>
                  <a:pt x="18827" y="16123"/>
                </a:cubicBezTo>
                <a:cubicBezTo>
                  <a:pt x="19286" y="16193"/>
                  <a:pt x="19667" y="16144"/>
                  <a:pt x="20117" y="16049"/>
                </a:cubicBezTo>
                <a:cubicBezTo>
                  <a:pt x="20489" y="15970"/>
                  <a:pt x="20838" y="15899"/>
                  <a:pt x="21084" y="15577"/>
                </a:cubicBezTo>
                <a:cubicBezTo>
                  <a:pt x="21268" y="15336"/>
                  <a:pt x="21364" y="15008"/>
                  <a:pt x="21382" y="14709"/>
                </a:cubicBezTo>
                <a:cubicBezTo>
                  <a:pt x="21404" y="14339"/>
                  <a:pt x="21343" y="14026"/>
                  <a:pt x="21134" y="13717"/>
                </a:cubicBezTo>
                <a:cubicBezTo>
                  <a:pt x="20943" y="13434"/>
                  <a:pt x="20626" y="13406"/>
                  <a:pt x="20315" y="13345"/>
                </a:cubicBezTo>
                <a:cubicBezTo>
                  <a:pt x="19942" y="13272"/>
                  <a:pt x="19625" y="13270"/>
                  <a:pt x="19273" y="13419"/>
                </a:cubicBezTo>
                <a:cubicBezTo>
                  <a:pt x="19025" y="13524"/>
                  <a:pt x="18766" y="13675"/>
                  <a:pt x="18554" y="13841"/>
                </a:cubicBezTo>
                <a:cubicBezTo>
                  <a:pt x="18358" y="13994"/>
                  <a:pt x="18207" y="14207"/>
                  <a:pt x="18107" y="14436"/>
                </a:cubicBezTo>
                <a:cubicBezTo>
                  <a:pt x="18005" y="14670"/>
                  <a:pt x="17928" y="14925"/>
                  <a:pt x="17909" y="15180"/>
                </a:cubicBezTo>
                <a:cubicBezTo>
                  <a:pt x="17893" y="15404"/>
                  <a:pt x="17985" y="15545"/>
                  <a:pt x="18132" y="15701"/>
                </a:cubicBezTo>
                <a:cubicBezTo>
                  <a:pt x="18241" y="15816"/>
                  <a:pt x="18330" y="15927"/>
                  <a:pt x="18479" y="15974"/>
                </a:cubicBezTo>
                <a:cubicBezTo>
                  <a:pt x="18550" y="15996"/>
                  <a:pt x="18595" y="16034"/>
                  <a:pt x="18628" y="1604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13080" y="1714680"/>
            <a:ext cx="11592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9203" y="4787"/>
                </a:moveTo>
                <a:cubicBezTo>
                  <a:pt x="9316" y="4787"/>
                  <a:pt x="9413" y="4779"/>
                  <a:pt x="9525" y="47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21000" y="1785960"/>
            <a:ext cx="117360" cy="9360"/>
          </a:xfrm>
          <a:custGeom>
            <a:avLst/>
            <a:gdLst/>
            <a:ahLst/>
            <a:rect l="l" t="t" r="r" b="b"/>
            <a:pathLst>
              <a:path w="324" h="26">
                <a:moveTo>
                  <a:pt x="9227" y="4986"/>
                </a:moveTo>
                <a:cubicBezTo>
                  <a:pt x="9393" y="4986"/>
                  <a:pt x="9444" y="4987"/>
                  <a:pt x="9550" y="49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1840" y="1544760"/>
            <a:ext cx="179280" cy="25056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10492" y="4316"/>
                </a:moveTo>
                <a:cubicBezTo>
                  <a:pt x="10492" y="4236"/>
                  <a:pt x="10437" y="4412"/>
                  <a:pt x="10418" y="4490"/>
                </a:cubicBezTo>
                <a:cubicBezTo>
                  <a:pt x="10377" y="4663"/>
                  <a:pt x="10326" y="4934"/>
                  <a:pt x="10592" y="4911"/>
                </a:cubicBezTo>
                <a:cubicBezTo>
                  <a:pt x="10753" y="4897"/>
                  <a:pt x="10816" y="4753"/>
                  <a:pt x="10889" y="4638"/>
                </a:cubicBezTo>
                <a:cubicBezTo>
                  <a:pt x="10688" y="4565"/>
                  <a:pt x="10652" y="4715"/>
                  <a:pt x="10592" y="4887"/>
                </a:cubicBezTo>
                <a:cubicBezTo>
                  <a:pt x="10584" y="4920"/>
                  <a:pt x="10575" y="4953"/>
                  <a:pt x="10567" y="49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3840" y="1795320"/>
            <a:ext cx="349200" cy="17640"/>
          </a:xfrm>
          <a:custGeom>
            <a:avLst/>
            <a:gdLst/>
            <a:ahLst/>
            <a:rect l="l" t="t" r="r" b="b"/>
            <a:pathLst>
              <a:path w="968" h="50">
                <a:moveTo>
                  <a:pt x="10096" y="5035"/>
                </a:moveTo>
                <a:cubicBezTo>
                  <a:pt x="10420" y="5022"/>
                  <a:pt x="10738" y="4986"/>
                  <a:pt x="11063" y="49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5920" y="1928880"/>
            <a:ext cx="152280" cy="196920"/>
          </a:xfrm>
          <a:custGeom>
            <a:avLst/>
            <a:gdLst/>
            <a:ahLst/>
            <a:rect l="l" t="t" r="r" b="b"/>
            <a:pathLst>
              <a:path w="422" h="547">
                <a:moveTo>
                  <a:pt x="10195" y="5383"/>
                </a:moveTo>
                <a:cubicBezTo>
                  <a:pt x="10314" y="5367"/>
                  <a:pt x="10388" y="5343"/>
                  <a:pt x="10492" y="5383"/>
                </a:cubicBezTo>
                <a:cubicBezTo>
                  <a:pt x="10404" y="5478"/>
                  <a:pt x="10330" y="5535"/>
                  <a:pt x="10220" y="5606"/>
                </a:cubicBezTo>
                <a:cubicBezTo>
                  <a:pt x="10294" y="5581"/>
                  <a:pt x="10546" y="5534"/>
                  <a:pt x="10492" y="5705"/>
                </a:cubicBezTo>
                <a:cubicBezTo>
                  <a:pt x="10451" y="5834"/>
                  <a:pt x="10184" y="6000"/>
                  <a:pt x="10071" y="5854"/>
                </a:cubicBezTo>
                <a:cubicBezTo>
                  <a:pt x="10071" y="5786"/>
                  <a:pt x="10084" y="5756"/>
                  <a:pt x="10145" y="57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7760" y="1911240"/>
            <a:ext cx="169560" cy="1778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1038" y="5308"/>
                </a:moveTo>
                <a:cubicBezTo>
                  <a:pt x="10990" y="5308"/>
                  <a:pt x="10894" y="5296"/>
                  <a:pt x="10864" y="5333"/>
                </a:cubicBezTo>
                <a:cubicBezTo>
                  <a:pt x="10825" y="5382"/>
                  <a:pt x="10787" y="5455"/>
                  <a:pt x="10765" y="5507"/>
                </a:cubicBezTo>
                <a:cubicBezTo>
                  <a:pt x="10847" y="5493"/>
                  <a:pt x="10980" y="5448"/>
                  <a:pt x="11063" y="5482"/>
                </a:cubicBezTo>
                <a:cubicBezTo>
                  <a:pt x="11286" y="5574"/>
                  <a:pt x="11148" y="5734"/>
                  <a:pt x="10988" y="5779"/>
                </a:cubicBezTo>
                <a:cubicBezTo>
                  <a:pt x="10839" y="5801"/>
                  <a:pt x="10805" y="5815"/>
                  <a:pt x="10716" y="577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1419120"/>
            <a:ext cx="884160" cy="920880"/>
          </a:xfrm>
          <a:custGeom>
            <a:avLst/>
            <a:gdLst/>
            <a:ahLst/>
            <a:rect l="l" t="t" r="r" b="b"/>
            <a:pathLst>
              <a:path w="2456" h="2556">
                <a:moveTo>
                  <a:pt x="9302" y="6052"/>
                </a:moveTo>
                <a:cubicBezTo>
                  <a:pt x="9510" y="6197"/>
                  <a:pt x="9676" y="6315"/>
                  <a:pt x="9922" y="6400"/>
                </a:cubicBezTo>
                <a:cubicBezTo>
                  <a:pt x="10272" y="6520"/>
                  <a:pt x="10611" y="6532"/>
                  <a:pt x="10964" y="6424"/>
                </a:cubicBezTo>
                <a:cubicBezTo>
                  <a:pt x="11294" y="6323"/>
                  <a:pt x="11521" y="6118"/>
                  <a:pt x="11658" y="5804"/>
                </a:cubicBezTo>
                <a:cubicBezTo>
                  <a:pt x="11775" y="5535"/>
                  <a:pt x="11774" y="5244"/>
                  <a:pt x="11708" y="4961"/>
                </a:cubicBezTo>
                <a:cubicBezTo>
                  <a:pt x="11641" y="4673"/>
                  <a:pt x="11511" y="4365"/>
                  <a:pt x="11261" y="4192"/>
                </a:cubicBezTo>
                <a:cubicBezTo>
                  <a:pt x="11057" y="4051"/>
                  <a:pt x="10737" y="3971"/>
                  <a:pt x="10492" y="3944"/>
                </a:cubicBezTo>
                <a:cubicBezTo>
                  <a:pt x="10226" y="3914"/>
                  <a:pt x="9914" y="3926"/>
                  <a:pt x="9723" y="4142"/>
                </a:cubicBezTo>
                <a:cubicBezTo>
                  <a:pt x="9271" y="4653"/>
                  <a:pt x="9322" y="5518"/>
                  <a:pt x="9674" y="6052"/>
                </a:cubicBezTo>
                <a:cubicBezTo>
                  <a:pt x="9802" y="6202"/>
                  <a:pt x="9823" y="6248"/>
                  <a:pt x="9947" y="627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tner Pract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 numbered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9240" y="588960"/>
            <a:ext cx="268560" cy="474840"/>
          </a:xfrm>
          <a:custGeom>
            <a:avLst/>
            <a:gdLst/>
            <a:ahLst/>
            <a:rect l="l" t="t" r="r" b="b"/>
            <a:pathLst>
              <a:path w="745" h="1316">
                <a:moveTo>
                  <a:pt x="14734" y="1662"/>
                </a:moveTo>
                <a:cubicBezTo>
                  <a:pt x="14734" y="1505"/>
                  <a:pt x="14747" y="1927"/>
                  <a:pt x="14734" y="2084"/>
                </a:cubicBezTo>
                <a:cubicBezTo>
                  <a:pt x="14711" y="2352"/>
                  <a:pt x="14802" y="3065"/>
                  <a:pt x="14610" y="2877"/>
                </a:cubicBezTo>
                <a:cubicBezTo>
                  <a:pt x="14610" y="2861"/>
                  <a:pt x="14610" y="2844"/>
                  <a:pt x="14610" y="2828"/>
                </a:cubicBezTo>
              </a:path>
              <a:path w="745" h="1316">
                <a:moveTo>
                  <a:pt x="15280" y="1860"/>
                </a:moveTo>
                <a:cubicBezTo>
                  <a:pt x="15141" y="2065"/>
                  <a:pt x="15048" y="2252"/>
                  <a:pt x="14808" y="2332"/>
                </a:cubicBezTo>
                <a:cubicBezTo>
                  <a:pt x="15005" y="2233"/>
                  <a:pt x="15184" y="2232"/>
                  <a:pt x="15304" y="2456"/>
                </a:cubicBezTo>
                <a:cubicBezTo>
                  <a:pt x="15384" y="2605"/>
                  <a:pt x="15229" y="3103"/>
                  <a:pt x="15304" y="2952"/>
                </a:cubicBezTo>
                <a:cubicBezTo>
                  <a:pt x="15312" y="2927"/>
                  <a:pt x="15321" y="2902"/>
                  <a:pt x="15329" y="287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581040"/>
            <a:ext cx="268200" cy="384120"/>
          </a:xfrm>
          <a:custGeom>
            <a:avLst/>
            <a:gdLst/>
            <a:ahLst/>
            <a:rect l="l" t="t" r="r" b="b"/>
            <a:pathLst>
              <a:path w="745" h="1068">
                <a:moveTo>
                  <a:pt x="16694" y="1935"/>
                </a:moveTo>
                <a:cubicBezTo>
                  <a:pt x="16665" y="1791"/>
                  <a:pt x="16616" y="1727"/>
                  <a:pt x="16520" y="1612"/>
                </a:cubicBezTo>
                <a:cubicBezTo>
                  <a:pt x="16216" y="1751"/>
                  <a:pt x="15987" y="2081"/>
                  <a:pt x="16098" y="2456"/>
                </a:cubicBezTo>
                <a:cubicBezTo>
                  <a:pt x="16205" y="2817"/>
                  <a:pt x="16597" y="2619"/>
                  <a:pt x="16818" y="2604"/>
                </a:cubicBezTo>
                <a:cubicBezTo>
                  <a:pt x="16879" y="2600"/>
                  <a:pt x="16814" y="2635"/>
                  <a:pt x="16842" y="26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86240" y="1170000"/>
            <a:ext cx="312840" cy="23184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14734" y="3597"/>
                </a:moveTo>
                <a:cubicBezTo>
                  <a:pt x="14711" y="3574"/>
                  <a:pt x="14703" y="3570"/>
                  <a:pt x="14709" y="3547"/>
                </a:cubicBezTo>
                <a:cubicBezTo>
                  <a:pt x="14689" y="3665"/>
                  <a:pt x="14718" y="3770"/>
                  <a:pt x="14734" y="3894"/>
                </a:cubicBezTo>
              </a:path>
              <a:path w="870" h="646">
                <a:moveTo>
                  <a:pt x="15081" y="3349"/>
                </a:moveTo>
                <a:cubicBezTo>
                  <a:pt x="15044" y="3370"/>
                  <a:pt x="15019" y="3389"/>
                  <a:pt x="14982" y="3398"/>
                </a:cubicBezTo>
                <a:cubicBezTo>
                  <a:pt x="15018" y="3430"/>
                  <a:pt x="15139" y="3503"/>
                  <a:pt x="15081" y="3572"/>
                </a:cubicBezTo>
                <a:cubicBezTo>
                  <a:pt x="15038" y="3624"/>
                  <a:pt x="14994" y="3646"/>
                  <a:pt x="14982" y="3621"/>
                </a:cubicBezTo>
              </a:path>
              <a:path w="870" h="646">
                <a:moveTo>
                  <a:pt x="15255" y="3249"/>
                </a:moveTo>
                <a:cubicBezTo>
                  <a:pt x="15299" y="3318"/>
                  <a:pt x="15425" y="3477"/>
                  <a:pt x="15379" y="3522"/>
                </a:cubicBezTo>
              </a:path>
              <a:path w="870" h="646">
                <a:moveTo>
                  <a:pt x="15255" y="3423"/>
                </a:moveTo>
                <a:cubicBezTo>
                  <a:pt x="15357" y="3406"/>
                  <a:pt x="15447" y="3380"/>
                  <a:pt x="15553" y="337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13280" y="1204920"/>
            <a:ext cx="509760" cy="277920"/>
          </a:xfrm>
          <a:custGeom>
            <a:avLst/>
            <a:gdLst/>
            <a:ahLst/>
            <a:rect l="l" t="t" r="r" b="b"/>
            <a:pathLst>
              <a:path w="1415" h="770">
                <a:moveTo>
                  <a:pt x="16272" y="3621"/>
                </a:moveTo>
                <a:cubicBezTo>
                  <a:pt x="16231" y="3638"/>
                  <a:pt x="16191" y="3669"/>
                  <a:pt x="16148" y="3696"/>
                </a:cubicBezTo>
                <a:cubicBezTo>
                  <a:pt x="16183" y="3708"/>
                  <a:pt x="16314" y="3693"/>
                  <a:pt x="16346" y="3746"/>
                </a:cubicBezTo>
                <a:cubicBezTo>
                  <a:pt x="16413" y="3855"/>
                  <a:pt x="16232" y="3947"/>
                  <a:pt x="16148" y="3919"/>
                </a:cubicBezTo>
                <a:cubicBezTo>
                  <a:pt x="16148" y="3911"/>
                  <a:pt x="16148" y="3902"/>
                  <a:pt x="16148" y="3894"/>
                </a:cubicBezTo>
              </a:path>
              <a:path w="1415" h="770">
                <a:moveTo>
                  <a:pt x="16470" y="3597"/>
                </a:moveTo>
                <a:cubicBezTo>
                  <a:pt x="16484" y="3666"/>
                  <a:pt x="16533" y="3725"/>
                  <a:pt x="16545" y="3795"/>
                </a:cubicBezTo>
                <a:cubicBezTo>
                  <a:pt x="16545" y="3828"/>
                  <a:pt x="16545" y="3828"/>
                  <a:pt x="16545" y="3770"/>
                </a:cubicBezTo>
              </a:path>
              <a:path w="1415" h="770">
                <a:moveTo>
                  <a:pt x="16470" y="3423"/>
                </a:moveTo>
                <a:cubicBezTo>
                  <a:pt x="16495" y="3423"/>
                  <a:pt x="16520" y="3423"/>
                  <a:pt x="16545" y="3423"/>
                </a:cubicBezTo>
              </a:path>
              <a:path w="1415" h="770">
                <a:moveTo>
                  <a:pt x="16545" y="3423"/>
                </a:moveTo>
                <a:lnTo>
                  <a:pt x="16545" y="3423"/>
                </a:lnTo>
              </a:path>
              <a:path w="1415" h="770">
                <a:moveTo>
                  <a:pt x="16942" y="3522"/>
                </a:moveTo>
                <a:cubicBezTo>
                  <a:pt x="16847" y="3583"/>
                  <a:pt x="16836" y="3609"/>
                  <a:pt x="16793" y="3721"/>
                </a:cubicBezTo>
                <a:cubicBezTo>
                  <a:pt x="16872" y="3656"/>
                  <a:pt x="16895" y="3644"/>
                  <a:pt x="16917" y="3547"/>
                </a:cubicBezTo>
                <a:cubicBezTo>
                  <a:pt x="16964" y="3678"/>
                  <a:pt x="17099" y="3825"/>
                  <a:pt x="17041" y="3994"/>
                </a:cubicBezTo>
                <a:cubicBezTo>
                  <a:pt x="16981" y="4168"/>
                  <a:pt x="16897" y="4107"/>
                  <a:pt x="16818" y="4043"/>
                </a:cubicBezTo>
              </a:path>
              <a:path w="1415" h="770">
                <a:moveTo>
                  <a:pt x="17115" y="3349"/>
                </a:moveTo>
                <a:cubicBezTo>
                  <a:pt x="17144" y="3463"/>
                  <a:pt x="17178" y="3584"/>
                  <a:pt x="17214" y="3696"/>
                </a:cubicBezTo>
                <a:cubicBezTo>
                  <a:pt x="17214" y="3657"/>
                  <a:pt x="17189" y="3541"/>
                  <a:pt x="17239" y="3522"/>
                </a:cubicBezTo>
                <a:cubicBezTo>
                  <a:pt x="17354" y="3478"/>
                  <a:pt x="17420" y="3580"/>
                  <a:pt x="17462" y="3671"/>
                </a:cubicBezTo>
                <a:cubicBezTo>
                  <a:pt x="17462" y="3679"/>
                  <a:pt x="17462" y="3688"/>
                  <a:pt x="17462" y="3696"/>
                </a:cubicBezTo>
              </a:path>
              <a:path w="1415" h="770">
                <a:moveTo>
                  <a:pt x="17140" y="3473"/>
                </a:moveTo>
                <a:lnTo>
                  <a:pt x="17140" y="3473"/>
                </a:lnTo>
              </a:path>
              <a:path w="1415" h="770">
                <a:moveTo>
                  <a:pt x="17140" y="3522"/>
                </a:moveTo>
                <a:cubicBezTo>
                  <a:pt x="17140" y="3530"/>
                  <a:pt x="17140" y="3539"/>
                  <a:pt x="17140" y="3547"/>
                </a:cubicBezTo>
              </a:path>
              <a:path w="1415" h="770">
                <a:moveTo>
                  <a:pt x="17165" y="3572"/>
                </a:moveTo>
                <a:cubicBezTo>
                  <a:pt x="17175" y="3611"/>
                  <a:pt x="17183" y="3635"/>
                  <a:pt x="17214" y="3646"/>
                </a:cubicBezTo>
              </a:path>
              <a:path w="1415" h="770">
                <a:moveTo>
                  <a:pt x="17289" y="3621"/>
                </a:moveTo>
                <a:cubicBezTo>
                  <a:pt x="17218" y="3621"/>
                  <a:pt x="17231" y="3603"/>
                  <a:pt x="17190" y="3547"/>
                </a:cubicBezTo>
                <a:cubicBezTo>
                  <a:pt x="17142" y="3482"/>
                  <a:pt x="17184" y="3490"/>
                  <a:pt x="17239" y="3448"/>
                </a:cubicBezTo>
                <a:cubicBezTo>
                  <a:pt x="17324" y="3384"/>
                  <a:pt x="17312" y="3408"/>
                  <a:pt x="17413" y="3423"/>
                </a:cubicBezTo>
                <a:cubicBezTo>
                  <a:pt x="17466" y="3431"/>
                  <a:pt x="17501" y="3457"/>
                  <a:pt x="17537" y="3497"/>
                </a:cubicBezTo>
                <a:cubicBezTo>
                  <a:pt x="17569" y="3532"/>
                  <a:pt x="17562" y="3551"/>
                  <a:pt x="17562" y="3597"/>
                </a:cubicBezTo>
                <a:cubicBezTo>
                  <a:pt x="17562" y="3621"/>
                  <a:pt x="17562" y="3630"/>
                  <a:pt x="17562" y="364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1000" y="1911240"/>
            <a:ext cx="2455920" cy="1320840"/>
          </a:xfrm>
          <a:custGeom>
            <a:avLst/>
            <a:gdLst/>
            <a:ahLst/>
            <a:rect l="l" t="t" r="r" b="b"/>
            <a:pathLst>
              <a:path w="6822" h="3672">
                <a:moveTo>
                  <a:pt x="12998" y="6400"/>
                </a:moveTo>
                <a:cubicBezTo>
                  <a:pt x="13016" y="6600"/>
                  <a:pt x="13035" y="6772"/>
                  <a:pt x="13022" y="6970"/>
                </a:cubicBezTo>
                <a:cubicBezTo>
                  <a:pt x="13022" y="6978"/>
                  <a:pt x="13022" y="6987"/>
                  <a:pt x="13022" y="6995"/>
                </a:cubicBezTo>
                <a:cubicBezTo>
                  <a:pt x="12998" y="6797"/>
                  <a:pt x="12951" y="6545"/>
                  <a:pt x="13022" y="6350"/>
                </a:cubicBezTo>
                <a:cubicBezTo>
                  <a:pt x="13105" y="6125"/>
                  <a:pt x="13405" y="6181"/>
                  <a:pt x="13345" y="6424"/>
                </a:cubicBezTo>
                <a:cubicBezTo>
                  <a:pt x="13277" y="6539"/>
                  <a:pt x="13262" y="6575"/>
                  <a:pt x="13171" y="6598"/>
                </a:cubicBezTo>
                <a:cubicBezTo>
                  <a:pt x="13143" y="6626"/>
                  <a:pt x="13134" y="6630"/>
                  <a:pt x="13146" y="6573"/>
                </a:cubicBezTo>
                <a:cubicBezTo>
                  <a:pt x="13339" y="6583"/>
                  <a:pt x="13541" y="6698"/>
                  <a:pt x="13295" y="6896"/>
                </a:cubicBezTo>
                <a:cubicBezTo>
                  <a:pt x="13191" y="6980"/>
                  <a:pt x="12972" y="6954"/>
                  <a:pt x="12973" y="6846"/>
                </a:cubicBezTo>
              </a:path>
              <a:path w="6822" h="3672">
                <a:moveTo>
                  <a:pt x="13593" y="6226"/>
                </a:moveTo>
                <a:cubicBezTo>
                  <a:pt x="13593" y="6317"/>
                  <a:pt x="13593" y="6408"/>
                  <a:pt x="13593" y="6499"/>
                </a:cubicBezTo>
                <a:cubicBezTo>
                  <a:pt x="13609" y="6452"/>
                  <a:pt x="13768" y="6344"/>
                  <a:pt x="13841" y="6375"/>
                </a:cubicBezTo>
                <a:cubicBezTo>
                  <a:pt x="14093" y="6484"/>
                  <a:pt x="13944" y="6760"/>
                  <a:pt x="13742" y="6796"/>
                </a:cubicBezTo>
                <a:cubicBezTo>
                  <a:pt x="13636" y="6776"/>
                  <a:pt x="13608" y="6781"/>
                  <a:pt x="13568" y="6722"/>
                </a:cubicBezTo>
              </a:path>
              <a:path w="6822" h="3672">
                <a:moveTo>
                  <a:pt x="13667" y="6176"/>
                </a:moveTo>
                <a:cubicBezTo>
                  <a:pt x="13826" y="6077"/>
                  <a:pt x="13954" y="6003"/>
                  <a:pt x="14139" y="5978"/>
                </a:cubicBezTo>
              </a:path>
              <a:path w="6822" h="3672">
                <a:moveTo>
                  <a:pt x="13097" y="7169"/>
                </a:moveTo>
                <a:cubicBezTo>
                  <a:pt x="13567" y="7189"/>
                  <a:pt x="14048" y="7179"/>
                  <a:pt x="14486" y="6970"/>
                </a:cubicBezTo>
                <a:cubicBezTo>
                  <a:pt x="14947" y="6750"/>
                  <a:pt x="14969" y="6238"/>
                  <a:pt x="14684" y="5854"/>
                </a:cubicBezTo>
                <a:cubicBezTo>
                  <a:pt x="14342" y="5392"/>
                  <a:pt x="13614" y="5101"/>
                  <a:pt x="13146" y="5531"/>
                </a:cubicBezTo>
                <a:cubicBezTo>
                  <a:pt x="12852" y="5801"/>
                  <a:pt x="12176" y="6662"/>
                  <a:pt x="12626" y="7069"/>
                </a:cubicBezTo>
                <a:cubicBezTo>
                  <a:pt x="12909" y="7173"/>
                  <a:pt x="13011" y="7205"/>
                  <a:pt x="13221" y="7144"/>
                </a:cubicBezTo>
              </a:path>
              <a:path w="6822" h="3672">
                <a:moveTo>
                  <a:pt x="15032" y="7193"/>
                </a:moveTo>
                <a:cubicBezTo>
                  <a:pt x="15019" y="7418"/>
                  <a:pt x="14975" y="7624"/>
                  <a:pt x="14908" y="7838"/>
                </a:cubicBezTo>
                <a:cubicBezTo>
                  <a:pt x="14908" y="7830"/>
                  <a:pt x="14908" y="7821"/>
                  <a:pt x="14908" y="7813"/>
                </a:cubicBezTo>
              </a:path>
              <a:path w="6822" h="3672">
                <a:moveTo>
                  <a:pt x="15379" y="7169"/>
                </a:moveTo>
                <a:cubicBezTo>
                  <a:pt x="15247" y="7411"/>
                  <a:pt x="15151" y="7542"/>
                  <a:pt x="15255" y="7789"/>
                </a:cubicBezTo>
                <a:cubicBezTo>
                  <a:pt x="15482" y="7713"/>
                  <a:pt x="15735" y="7545"/>
                  <a:pt x="15577" y="7243"/>
                </a:cubicBezTo>
                <a:cubicBezTo>
                  <a:pt x="15482" y="7195"/>
                  <a:pt x="15453" y="7178"/>
                  <a:pt x="15379" y="7193"/>
                </a:cubicBezTo>
              </a:path>
              <a:path w="6822" h="3672">
                <a:moveTo>
                  <a:pt x="14784" y="8210"/>
                </a:moveTo>
                <a:cubicBezTo>
                  <a:pt x="15056" y="8186"/>
                  <a:pt x="15738" y="7924"/>
                  <a:pt x="15602" y="8161"/>
                </a:cubicBezTo>
                <a:cubicBezTo>
                  <a:pt x="15577" y="8169"/>
                  <a:pt x="15553" y="8178"/>
                  <a:pt x="15528" y="8186"/>
                </a:cubicBezTo>
              </a:path>
              <a:path w="6822" h="3672">
                <a:moveTo>
                  <a:pt x="15032" y="8508"/>
                </a:moveTo>
                <a:cubicBezTo>
                  <a:pt x="15071" y="8501"/>
                  <a:pt x="15506" y="8434"/>
                  <a:pt x="15453" y="8582"/>
                </a:cubicBezTo>
                <a:cubicBezTo>
                  <a:pt x="15421" y="8670"/>
                  <a:pt x="15232" y="8704"/>
                  <a:pt x="15156" y="8731"/>
                </a:cubicBezTo>
                <a:cubicBezTo>
                  <a:pt x="15343" y="8712"/>
                  <a:pt x="15338" y="8683"/>
                  <a:pt x="15429" y="8830"/>
                </a:cubicBezTo>
                <a:cubicBezTo>
                  <a:pt x="15286" y="8955"/>
                  <a:pt x="15034" y="9064"/>
                  <a:pt x="14833" y="8930"/>
                </a:cubicBezTo>
                <a:cubicBezTo>
                  <a:pt x="14841" y="8913"/>
                  <a:pt x="14850" y="8897"/>
                  <a:pt x="14858" y="8880"/>
                </a:cubicBezTo>
              </a:path>
              <a:path w="6822" h="3672">
                <a:moveTo>
                  <a:pt x="16222" y="8161"/>
                </a:moveTo>
                <a:cubicBezTo>
                  <a:pt x="16214" y="8161"/>
                  <a:pt x="16205" y="8161"/>
                  <a:pt x="16197" y="8161"/>
                </a:cubicBezTo>
                <a:cubicBezTo>
                  <a:pt x="16309" y="8094"/>
                  <a:pt x="16487" y="8149"/>
                  <a:pt x="16619" y="8136"/>
                </a:cubicBezTo>
                <a:cubicBezTo>
                  <a:pt x="16710" y="8118"/>
                  <a:pt x="16751" y="8076"/>
                  <a:pt x="16743" y="8136"/>
                </a:cubicBezTo>
              </a:path>
              <a:path w="6822" h="3672">
                <a:moveTo>
                  <a:pt x="16396" y="7640"/>
                </a:moveTo>
                <a:cubicBezTo>
                  <a:pt x="16396" y="7648"/>
                  <a:pt x="16396" y="7657"/>
                  <a:pt x="16396" y="7665"/>
                </a:cubicBezTo>
              </a:path>
              <a:path w="6822" h="3672">
                <a:moveTo>
                  <a:pt x="16495" y="8483"/>
                </a:moveTo>
                <a:cubicBezTo>
                  <a:pt x="16495" y="8491"/>
                  <a:pt x="16495" y="8500"/>
                  <a:pt x="16495" y="8508"/>
                </a:cubicBezTo>
              </a:path>
              <a:path w="6822" h="3672">
                <a:moveTo>
                  <a:pt x="17686" y="7491"/>
                </a:moveTo>
                <a:cubicBezTo>
                  <a:pt x="17601" y="7515"/>
                  <a:pt x="17460" y="7519"/>
                  <a:pt x="17388" y="7565"/>
                </a:cubicBezTo>
                <a:cubicBezTo>
                  <a:pt x="17339" y="7596"/>
                  <a:pt x="17328" y="7777"/>
                  <a:pt x="17314" y="7838"/>
                </a:cubicBezTo>
                <a:cubicBezTo>
                  <a:pt x="17455" y="7814"/>
                  <a:pt x="17598" y="7781"/>
                  <a:pt x="17735" y="7863"/>
                </a:cubicBezTo>
                <a:cubicBezTo>
                  <a:pt x="18052" y="8053"/>
                  <a:pt x="17876" y="8352"/>
                  <a:pt x="17611" y="8458"/>
                </a:cubicBezTo>
                <a:cubicBezTo>
                  <a:pt x="17386" y="8548"/>
                  <a:pt x="17140" y="8558"/>
                  <a:pt x="17140" y="8310"/>
                </a:cubicBezTo>
              </a:path>
              <a:path w="6822" h="3672">
                <a:moveTo>
                  <a:pt x="19025" y="6970"/>
                </a:moveTo>
                <a:cubicBezTo>
                  <a:pt x="19025" y="7164"/>
                  <a:pt x="19017" y="7349"/>
                  <a:pt x="19000" y="7541"/>
                </a:cubicBezTo>
                <a:cubicBezTo>
                  <a:pt x="19000" y="7557"/>
                  <a:pt x="19000" y="7574"/>
                  <a:pt x="19000" y="7590"/>
                </a:cubicBezTo>
              </a:path>
              <a:path w="6822" h="3672">
                <a:moveTo>
                  <a:pt x="18653" y="7689"/>
                </a:moveTo>
                <a:cubicBezTo>
                  <a:pt x="18769" y="7689"/>
                  <a:pt x="19241" y="7629"/>
                  <a:pt x="19298" y="7714"/>
                </a:cubicBezTo>
              </a:path>
              <a:path w="6822" h="3672">
                <a:moveTo>
                  <a:pt x="18777" y="8037"/>
                </a:moveTo>
                <a:cubicBezTo>
                  <a:pt x="18768" y="8100"/>
                  <a:pt x="18751" y="8152"/>
                  <a:pt x="18728" y="8210"/>
                </a:cubicBezTo>
                <a:cubicBezTo>
                  <a:pt x="18860" y="8237"/>
                  <a:pt x="18996" y="8225"/>
                  <a:pt x="19124" y="8260"/>
                </a:cubicBezTo>
              </a:path>
              <a:path w="6822" h="3672">
                <a:moveTo>
                  <a:pt x="19050" y="7888"/>
                </a:moveTo>
                <a:cubicBezTo>
                  <a:pt x="19043" y="8087"/>
                  <a:pt x="19025" y="8284"/>
                  <a:pt x="19025" y="8483"/>
                </a:cubicBezTo>
                <a:cubicBezTo>
                  <a:pt x="19025" y="8491"/>
                  <a:pt x="19025" y="8500"/>
                  <a:pt x="19025" y="8508"/>
                </a:cubicBezTo>
              </a:path>
              <a:path w="6822" h="3672">
                <a:moveTo>
                  <a:pt x="18207" y="8409"/>
                </a:moveTo>
                <a:cubicBezTo>
                  <a:pt x="18236" y="8449"/>
                  <a:pt x="18247" y="8482"/>
                  <a:pt x="18281" y="8508"/>
                </a:cubicBezTo>
                <a:cubicBezTo>
                  <a:pt x="18304" y="8531"/>
                  <a:pt x="18308" y="8539"/>
                  <a:pt x="18331" y="8533"/>
                </a:cubicBezTo>
              </a:path>
              <a:path w="6822" h="3672">
                <a:moveTo>
                  <a:pt x="18355" y="8359"/>
                </a:moveTo>
                <a:cubicBezTo>
                  <a:pt x="18310" y="8414"/>
                  <a:pt x="18260" y="8515"/>
                  <a:pt x="18207" y="8558"/>
                </a:cubicBezTo>
                <a:cubicBezTo>
                  <a:pt x="18199" y="8558"/>
                  <a:pt x="18190" y="8558"/>
                  <a:pt x="18182" y="8558"/>
                </a:cubicBezTo>
              </a:path>
              <a:path w="6822" h="3672">
                <a:moveTo>
                  <a:pt x="18579" y="6871"/>
                </a:moveTo>
                <a:cubicBezTo>
                  <a:pt x="18563" y="6920"/>
                  <a:pt x="18554" y="6988"/>
                  <a:pt x="18554" y="7069"/>
                </a:cubicBezTo>
              </a:path>
              <a:path w="6822" h="3672">
                <a:moveTo>
                  <a:pt x="18405" y="7020"/>
                </a:moveTo>
                <a:cubicBezTo>
                  <a:pt x="18491" y="6993"/>
                  <a:pt x="18564" y="6977"/>
                  <a:pt x="18653" y="697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5760" y="2197080"/>
            <a:ext cx="955440" cy="588960"/>
          </a:xfrm>
          <a:custGeom>
            <a:avLst/>
            <a:gdLst/>
            <a:ahLst/>
            <a:rect l="l" t="t" r="r" b="b"/>
            <a:pathLst>
              <a:path w="2655" h="1638">
                <a:moveTo>
                  <a:pt x="2431" y="6747"/>
                </a:moveTo>
                <a:cubicBezTo>
                  <a:pt x="2522" y="6838"/>
                  <a:pt x="2561" y="6792"/>
                  <a:pt x="2456" y="6697"/>
                </a:cubicBezTo>
                <a:cubicBezTo>
                  <a:pt x="2229" y="6492"/>
                  <a:pt x="2051" y="6807"/>
                  <a:pt x="1984" y="6995"/>
                </a:cubicBezTo>
                <a:cubicBezTo>
                  <a:pt x="1851" y="7370"/>
                  <a:pt x="2044" y="7526"/>
                  <a:pt x="2406" y="7417"/>
                </a:cubicBezTo>
                <a:cubicBezTo>
                  <a:pt x="2561" y="7338"/>
                  <a:pt x="2582" y="7320"/>
                  <a:pt x="2679" y="7293"/>
                </a:cubicBezTo>
              </a:path>
              <a:path w="2655" h="1638">
                <a:moveTo>
                  <a:pt x="3101" y="6598"/>
                </a:moveTo>
                <a:cubicBezTo>
                  <a:pt x="3101" y="6766"/>
                  <a:pt x="3110" y="6928"/>
                  <a:pt x="3125" y="7094"/>
                </a:cubicBezTo>
                <a:cubicBezTo>
                  <a:pt x="3125" y="7111"/>
                  <a:pt x="3125" y="7127"/>
                  <a:pt x="3125" y="7144"/>
                </a:cubicBezTo>
              </a:path>
              <a:path w="2655" h="1638">
                <a:moveTo>
                  <a:pt x="1761" y="7739"/>
                </a:moveTo>
                <a:cubicBezTo>
                  <a:pt x="2167" y="7726"/>
                  <a:pt x="2532" y="7662"/>
                  <a:pt x="2927" y="7565"/>
                </a:cubicBezTo>
                <a:cubicBezTo>
                  <a:pt x="3252" y="7485"/>
                  <a:pt x="3815" y="7401"/>
                  <a:pt x="3919" y="6995"/>
                </a:cubicBezTo>
                <a:cubicBezTo>
                  <a:pt x="4009" y="6645"/>
                  <a:pt x="3668" y="6317"/>
                  <a:pt x="3373" y="6201"/>
                </a:cubicBezTo>
                <a:cubicBezTo>
                  <a:pt x="2970" y="6043"/>
                  <a:pt x="2443" y="6065"/>
                  <a:pt x="2034" y="6176"/>
                </a:cubicBezTo>
                <a:cubicBezTo>
                  <a:pt x="1528" y="6314"/>
                  <a:pt x="1219" y="6742"/>
                  <a:pt x="1265" y="7268"/>
                </a:cubicBezTo>
                <a:cubicBezTo>
                  <a:pt x="1283" y="7470"/>
                  <a:pt x="1355" y="7768"/>
                  <a:pt x="1612" y="7739"/>
                </a:cubicBezTo>
                <a:cubicBezTo>
                  <a:pt x="1687" y="7714"/>
                  <a:pt x="1761" y="7690"/>
                  <a:pt x="1836" y="766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0880" y="2473200"/>
            <a:ext cx="1206360" cy="563760"/>
          </a:xfrm>
          <a:custGeom>
            <a:avLst/>
            <a:gdLst/>
            <a:ahLst/>
            <a:rect l="l" t="t" r="r" b="b"/>
            <a:pathLst>
              <a:path w="3350" h="1564">
                <a:moveTo>
                  <a:pt x="5259" y="6871"/>
                </a:moveTo>
                <a:cubicBezTo>
                  <a:pt x="5330" y="7031"/>
                  <a:pt x="5379" y="7188"/>
                  <a:pt x="5358" y="7367"/>
                </a:cubicBezTo>
                <a:cubicBezTo>
                  <a:pt x="5350" y="7384"/>
                  <a:pt x="5341" y="7400"/>
                  <a:pt x="5333" y="7417"/>
                </a:cubicBezTo>
              </a:path>
              <a:path w="3350" h="1564">
                <a:moveTo>
                  <a:pt x="5060" y="7665"/>
                </a:moveTo>
                <a:cubicBezTo>
                  <a:pt x="5400" y="7614"/>
                  <a:pt x="5734" y="7551"/>
                  <a:pt x="6077" y="7541"/>
                </a:cubicBezTo>
                <a:cubicBezTo>
                  <a:pt x="6102" y="7541"/>
                  <a:pt x="6110" y="7541"/>
                  <a:pt x="6102" y="7565"/>
                </a:cubicBezTo>
              </a:path>
              <a:path w="3350" h="1564">
                <a:moveTo>
                  <a:pt x="5159" y="7938"/>
                </a:moveTo>
                <a:cubicBezTo>
                  <a:pt x="5235" y="7913"/>
                  <a:pt x="5612" y="7824"/>
                  <a:pt x="5581" y="8037"/>
                </a:cubicBezTo>
                <a:cubicBezTo>
                  <a:pt x="5569" y="8123"/>
                  <a:pt x="5418" y="8149"/>
                  <a:pt x="5358" y="8161"/>
                </a:cubicBezTo>
                <a:cubicBezTo>
                  <a:pt x="5508" y="8144"/>
                  <a:pt x="5503" y="8150"/>
                  <a:pt x="5631" y="8186"/>
                </a:cubicBezTo>
                <a:cubicBezTo>
                  <a:pt x="5591" y="8399"/>
                  <a:pt x="5489" y="8448"/>
                  <a:pt x="5259" y="8434"/>
                </a:cubicBezTo>
                <a:cubicBezTo>
                  <a:pt x="5158" y="8414"/>
                  <a:pt x="5107" y="8427"/>
                  <a:pt x="5159" y="8359"/>
                </a:cubicBezTo>
              </a:path>
              <a:path w="3350" h="1564">
                <a:moveTo>
                  <a:pt x="6648" y="7516"/>
                </a:moveTo>
                <a:cubicBezTo>
                  <a:pt x="6850" y="7516"/>
                  <a:pt x="7044" y="7512"/>
                  <a:pt x="7243" y="7491"/>
                </a:cubicBezTo>
                <a:cubicBezTo>
                  <a:pt x="7251" y="7491"/>
                  <a:pt x="7260" y="7491"/>
                  <a:pt x="7268" y="7491"/>
                </a:cubicBezTo>
              </a:path>
              <a:path w="3350" h="1564">
                <a:moveTo>
                  <a:pt x="6995" y="7094"/>
                </a:moveTo>
                <a:lnTo>
                  <a:pt x="6995" y="7094"/>
                </a:lnTo>
              </a:path>
              <a:path w="3350" h="1564">
                <a:moveTo>
                  <a:pt x="6995" y="7888"/>
                </a:moveTo>
                <a:cubicBezTo>
                  <a:pt x="6995" y="7896"/>
                  <a:pt x="6995" y="7905"/>
                  <a:pt x="6995" y="7913"/>
                </a:cubicBezTo>
              </a:path>
              <a:path w="3350" h="1564">
                <a:moveTo>
                  <a:pt x="8037" y="6896"/>
                </a:moveTo>
                <a:cubicBezTo>
                  <a:pt x="8096" y="6916"/>
                  <a:pt x="8144" y="7109"/>
                  <a:pt x="8161" y="7169"/>
                </a:cubicBezTo>
                <a:cubicBezTo>
                  <a:pt x="8178" y="7229"/>
                  <a:pt x="8198" y="7305"/>
                  <a:pt x="8210" y="7367"/>
                </a:cubicBezTo>
              </a:path>
              <a:path w="3350" h="1564">
                <a:moveTo>
                  <a:pt x="7739" y="7615"/>
                </a:moveTo>
                <a:cubicBezTo>
                  <a:pt x="7948" y="7599"/>
                  <a:pt x="8149" y="7551"/>
                  <a:pt x="8359" y="7541"/>
                </a:cubicBezTo>
                <a:cubicBezTo>
                  <a:pt x="8384" y="7541"/>
                  <a:pt x="8392" y="7541"/>
                  <a:pt x="8409" y="7541"/>
                </a:cubicBezTo>
              </a:path>
              <a:path w="3350" h="1564">
                <a:moveTo>
                  <a:pt x="7888" y="7838"/>
                </a:moveTo>
                <a:cubicBezTo>
                  <a:pt x="8048" y="7806"/>
                  <a:pt x="8173" y="7801"/>
                  <a:pt x="8334" y="7813"/>
                </a:cubicBezTo>
                <a:cubicBezTo>
                  <a:pt x="8460" y="7964"/>
                  <a:pt x="8123" y="8038"/>
                  <a:pt x="8012" y="8111"/>
                </a:cubicBezTo>
                <a:cubicBezTo>
                  <a:pt x="7920" y="8184"/>
                  <a:pt x="7908" y="8188"/>
                  <a:pt x="7863" y="8235"/>
                </a:cubicBezTo>
                <a:cubicBezTo>
                  <a:pt x="8023" y="8224"/>
                  <a:pt x="8179" y="8200"/>
                  <a:pt x="8334" y="81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04960" y="3251160"/>
            <a:ext cx="1982880" cy="857160"/>
          </a:xfrm>
          <a:custGeom>
            <a:avLst/>
            <a:gdLst/>
            <a:ahLst/>
            <a:rect l="l" t="t" r="r" b="b"/>
            <a:pathLst>
              <a:path w="5507" h="2382">
                <a:moveTo>
                  <a:pt x="5011" y="9575"/>
                </a:moveTo>
                <a:cubicBezTo>
                  <a:pt x="5063" y="9769"/>
                  <a:pt x="5056" y="9990"/>
                  <a:pt x="5060" y="10195"/>
                </a:cubicBezTo>
                <a:cubicBezTo>
                  <a:pt x="5061" y="10236"/>
                  <a:pt x="5060" y="10278"/>
                  <a:pt x="5060" y="10319"/>
                </a:cubicBezTo>
              </a:path>
              <a:path w="5507" h="2382">
                <a:moveTo>
                  <a:pt x="4738" y="10418"/>
                </a:moveTo>
                <a:cubicBezTo>
                  <a:pt x="4978" y="10367"/>
                  <a:pt x="5211" y="10329"/>
                  <a:pt x="5457" y="10319"/>
                </a:cubicBezTo>
                <a:cubicBezTo>
                  <a:pt x="5482" y="10319"/>
                  <a:pt x="5490" y="10319"/>
                  <a:pt x="5507" y="10319"/>
                </a:cubicBezTo>
              </a:path>
              <a:path w="5507" h="2382">
                <a:moveTo>
                  <a:pt x="5011" y="10691"/>
                </a:moveTo>
                <a:cubicBezTo>
                  <a:pt x="5181" y="10576"/>
                  <a:pt x="5266" y="10566"/>
                  <a:pt x="5432" y="10666"/>
                </a:cubicBezTo>
                <a:cubicBezTo>
                  <a:pt x="5396" y="10823"/>
                  <a:pt x="5318" y="10871"/>
                  <a:pt x="5184" y="10964"/>
                </a:cubicBezTo>
                <a:cubicBezTo>
                  <a:pt x="5184" y="10929"/>
                  <a:pt x="5348" y="10865"/>
                  <a:pt x="5432" y="10939"/>
                </a:cubicBezTo>
                <a:cubicBezTo>
                  <a:pt x="5596" y="11084"/>
                  <a:pt x="5299" y="11298"/>
                  <a:pt x="5184" y="11336"/>
                </a:cubicBezTo>
                <a:cubicBezTo>
                  <a:pt x="5163" y="11343"/>
                  <a:pt x="4945" y="11311"/>
                  <a:pt x="5011" y="11311"/>
                </a:cubicBezTo>
                <a:cubicBezTo>
                  <a:pt x="5019" y="11311"/>
                  <a:pt x="5027" y="11311"/>
                  <a:pt x="5035" y="11311"/>
                </a:cubicBezTo>
              </a:path>
              <a:path w="5507" h="2382">
                <a:moveTo>
                  <a:pt x="6003" y="10046"/>
                </a:moveTo>
                <a:cubicBezTo>
                  <a:pt x="6157" y="10134"/>
                  <a:pt x="6237" y="10305"/>
                  <a:pt x="6350" y="10443"/>
                </a:cubicBezTo>
                <a:cubicBezTo>
                  <a:pt x="6394" y="10497"/>
                  <a:pt x="6428" y="10645"/>
                  <a:pt x="6474" y="10592"/>
                </a:cubicBezTo>
                <a:cubicBezTo>
                  <a:pt x="6482" y="10575"/>
                  <a:pt x="6491" y="10559"/>
                  <a:pt x="6499" y="10542"/>
                </a:cubicBezTo>
              </a:path>
              <a:path w="5507" h="2382">
                <a:moveTo>
                  <a:pt x="6499" y="9947"/>
                </a:moveTo>
                <a:cubicBezTo>
                  <a:pt x="6395" y="10139"/>
                  <a:pt x="6293" y="10261"/>
                  <a:pt x="6152" y="10418"/>
                </a:cubicBezTo>
                <a:cubicBezTo>
                  <a:pt x="6110" y="10465"/>
                  <a:pt x="6064" y="10506"/>
                  <a:pt x="6052" y="10542"/>
                </a:cubicBezTo>
              </a:path>
              <a:path w="5507" h="2382">
                <a:moveTo>
                  <a:pt x="6995" y="9426"/>
                </a:moveTo>
                <a:cubicBezTo>
                  <a:pt x="7076" y="9426"/>
                  <a:pt x="7056" y="9415"/>
                  <a:pt x="7144" y="9376"/>
                </a:cubicBezTo>
                <a:cubicBezTo>
                  <a:pt x="7191" y="9355"/>
                  <a:pt x="7368" y="9319"/>
                  <a:pt x="7392" y="9401"/>
                </a:cubicBezTo>
                <a:cubicBezTo>
                  <a:pt x="7443" y="9573"/>
                  <a:pt x="7246" y="9703"/>
                  <a:pt x="7144" y="9798"/>
                </a:cubicBezTo>
                <a:cubicBezTo>
                  <a:pt x="7078" y="9860"/>
                  <a:pt x="7039" y="9920"/>
                  <a:pt x="6995" y="9996"/>
                </a:cubicBezTo>
                <a:cubicBezTo>
                  <a:pt x="7109" y="9977"/>
                  <a:pt x="7198" y="9911"/>
                  <a:pt x="7317" y="9897"/>
                </a:cubicBezTo>
                <a:cubicBezTo>
                  <a:pt x="7434" y="9884"/>
                  <a:pt x="7531" y="9914"/>
                  <a:pt x="7640" y="9922"/>
                </a:cubicBezTo>
                <a:cubicBezTo>
                  <a:pt x="7648" y="9922"/>
                  <a:pt x="7657" y="9922"/>
                  <a:pt x="7665" y="9922"/>
                </a:cubicBezTo>
              </a:path>
              <a:path w="5507" h="2382">
                <a:moveTo>
                  <a:pt x="6871" y="10319"/>
                </a:moveTo>
                <a:cubicBezTo>
                  <a:pt x="7064" y="10263"/>
                  <a:pt x="7265" y="10253"/>
                  <a:pt x="7466" y="10244"/>
                </a:cubicBezTo>
                <a:cubicBezTo>
                  <a:pt x="7556" y="10240"/>
                  <a:pt x="7649" y="10244"/>
                  <a:pt x="7739" y="10244"/>
                </a:cubicBezTo>
              </a:path>
              <a:path w="5507" h="2382">
                <a:moveTo>
                  <a:pt x="7293" y="10393"/>
                </a:moveTo>
                <a:cubicBezTo>
                  <a:pt x="7351" y="10474"/>
                  <a:pt x="7317" y="10646"/>
                  <a:pt x="7317" y="10740"/>
                </a:cubicBezTo>
                <a:cubicBezTo>
                  <a:pt x="7317" y="10848"/>
                  <a:pt x="7317" y="10955"/>
                  <a:pt x="7317" y="11063"/>
                </a:cubicBezTo>
              </a:path>
              <a:path w="5507" h="2382">
                <a:moveTo>
                  <a:pt x="8086" y="10195"/>
                </a:moveTo>
                <a:cubicBezTo>
                  <a:pt x="8204" y="10195"/>
                  <a:pt x="8358" y="10169"/>
                  <a:pt x="8458" y="10220"/>
                </a:cubicBezTo>
              </a:path>
              <a:path w="5507" h="2382">
                <a:moveTo>
                  <a:pt x="8111" y="10368"/>
                </a:moveTo>
                <a:cubicBezTo>
                  <a:pt x="8261" y="10344"/>
                  <a:pt x="8383" y="10355"/>
                  <a:pt x="8533" y="10368"/>
                </a:cubicBezTo>
              </a:path>
              <a:path w="5507" h="2382">
                <a:moveTo>
                  <a:pt x="9327" y="9575"/>
                </a:moveTo>
                <a:cubicBezTo>
                  <a:pt x="9327" y="9532"/>
                  <a:pt x="9304" y="9580"/>
                  <a:pt x="9302" y="9599"/>
                </a:cubicBezTo>
                <a:cubicBezTo>
                  <a:pt x="9302" y="9634"/>
                  <a:pt x="9297" y="9652"/>
                  <a:pt x="9277" y="9674"/>
                </a:cubicBezTo>
                <a:cubicBezTo>
                  <a:pt x="9277" y="9586"/>
                  <a:pt x="9325" y="9500"/>
                  <a:pt x="9401" y="9451"/>
                </a:cubicBezTo>
                <a:cubicBezTo>
                  <a:pt x="9488" y="9396"/>
                  <a:pt x="9721" y="9338"/>
                  <a:pt x="9699" y="9525"/>
                </a:cubicBezTo>
                <a:cubicBezTo>
                  <a:pt x="9671" y="9764"/>
                  <a:pt x="9429" y="9935"/>
                  <a:pt x="9277" y="10096"/>
                </a:cubicBezTo>
                <a:cubicBezTo>
                  <a:pt x="9260" y="10112"/>
                  <a:pt x="9244" y="10129"/>
                  <a:pt x="9227" y="10145"/>
                </a:cubicBezTo>
                <a:cubicBezTo>
                  <a:pt x="9260" y="10064"/>
                  <a:pt x="9333" y="10032"/>
                  <a:pt x="9426" y="10046"/>
                </a:cubicBezTo>
                <a:cubicBezTo>
                  <a:pt x="9569" y="10067"/>
                  <a:pt x="9654" y="10051"/>
                  <a:pt x="9798" y="10021"/>
                </a:cubicBezTo>
                <a:cubicBezTo>
                  <a:pt x="9806" y="10021"/>
                  <a:pt x="9815" y="10021"/>
                  <a:pt x="9823" y="10021"/>
                </a:cubicBezTo>
              </a:path>
              <a:path w="5507" h="2382">
                <a:moveTo>
                  <a:pt x="9153" y="10368"/>
                </a:moveTo>
                <a:cubicBezTo>
                  <a:pt x="9440" y="10343"/>
                  <a:pt x="9741" y="10294"/>
                  <a:pt x="10021" y="10319"/>
                </a:cubicBezTo>
                <a:cubicBezTo>
                  <a:pt x="10046" y="10319"/>
                  <a:pt x="10054" y="10319"/>
                  <a:pt x="10021" y="10319"/>
                </a:cubicBezTo>
              </a:path>
              <a:path w="5507" h="2382">
                <a:moveTo>
                  <a:pt x="9351" y="10666"/>
                </a:moveTo>
                <a:cubicBezTo>
                  <a:pt x="9351" y="10584"/>
                  <a:pt x="9478" y="10513"/>
                  <a:pt x="9550" y="10492"/>
                </a:cubicBezTo>
                <a:cubicBezTo>
                  <a:pt x="9583" y="10492"/>
                  <a:pt x="9616" y="10492"/>
                  <a:pt x="9649" y="10492"/>
                </a:cubicBezTo>
                <a:cubicBezTo>
                  <a:pt x="9677" y="10605"/>
                  <a:pt x="9631" y="10732"/>
                  <a:pt x="9525" y="10815"/>
                </a:cubicBezTo>
                <a:cubicBezTo>
                  <a:pt x="9517" y="10815"/>
                  <a:pt x="9508" y="10815"/>
                  <a:pt x="9500" y="10815"/>
                </a:cubicBezTo>
                <a:cubicBezTo>
                  <a:pt x="9588" y="10727"/>
                  <a:pt x="9835" y="10641"/>
                  <a:pt x="9798" y="10889"/>
                </a:cubicBezTo>
                <a:cubicBezTo>
                  <a:pt x="9761" y="11132"/>
                  <a:pt x="9511" y="11131"/>
                  <a:pt x="9327" y="11137"/>
                </a:cubicBezTo>
                <a:cubicBezTo>
                  <a:pt x="9310" y="11137"/>
                  <a:pt x="9294" y="11137"/>
                  <a:pt x="9277" y="11137"/>
                </a:cubicBezTo>
              </a:path>
              <a:path w="5507" h="2382">
                <a:moveTo>
                  <a:pt x="8558" y="10840"/>
                </a:moveTo>
                <a:cubicBezTo>
                  <a:pt x="8598" y="10932"/>
                  <a:pt x="8623" y="11077"/>
                  <a:pt x="8682" y="11162"/>
                </a:cubicBezTo>
                <a:cubicBezTo>
                  <a:pt x="8801" y="11334"/>
                  <a:pt x="9079" y="11410"/>
                  <a:pt x="9277" y="11410"/>
                </a:cubicBezTo>
                <a:cubicBezTo>
                  <a:pt x="9517" y="11410"/>
                  <a:pt x="9694" y="11255"/>
                  <a:pt x="9847" y="11088"/>
                </a:cubicBezTo>
                <a:cubicBezTo>
                  <a:pt x="10001" y="10920"/>
                  <a:pt x="10096" y="10727"/>
                  <a:pt x="10170" y="10517"/>
                </a:cubicBezTo>
                <a:cubicBezTo>
                  <a:pt x="10233" y="10337"/>
                  <a:pt x="10263" y="10163"/>
                  <a:pt x="10244" y="9971"/>
                </a:cubicBezTo>
                <a:cubicBezTo>
                  <a:pt x="10226" y="9794"/>
                  <a:pt x="10159" y="9623"/>
                  <a:pt x="10120" y="9451"/>
                </a:cubicBezTo>
                <a:cubicBezTo>
                  <a:pt x="10083" y="9289"/>
                  <a:pt x="9995" y="9182"/>
                  <a:pt x="9847" y="9103"/>
                </a:cubicBezTo>
                <a:cubicBezTo>
                  <a:pt x="9691" y="9020"/>
                  <a:pt x="9541" y="9022"/>
                  <a:pt x="9376" y="9079"/>
                </a:cubicBezTo>
                <a:cubicBezTo>
                  <a:pt x="9178" y="9148"/>
                  <a:pt x="9054" y="9259"/>
                  <a:pt x="8930" y="9426"/>
                </a:cubicBezTo>
                <a:cubicBezTo>
                  <a:pt x="8794" y="9609"/>
                  <a:pt x="8755" y="9804"/>
                  <a:pt x="8706" y="10021"/>
                </a:cubicBezTo>
                <a:cubicBezTo>
                  <a:pt x="8673" y="10169"/>
                  <a:pt x="8682" y="10317"/>
                  <a:pt x="8682" y="10468"/>
                </a:cubicBezTo>
                <a:cubicBezTo>
                  <a:pt x="8682" y="10634"/>
                  <a:pt x="8653" y="10840"/>
                  <a:pt x="8706" y="10988"/>
                </a:cubicBezTo>
                <a:cubicBezTo>
                  <a:pt x="8747" y="11101"/>
                  <a:pt x="8760" y="11105"/>
                  <a:pt x="8781" y="11212"/>
                </a:cubicBezTo>
                <a:cubicBezTo>
                  <a:pt x="8792" y="11271"/>
                  <a:pt x="8803" y="11321"/>
                  <a:pt x="8806" y="1138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75160" y="3652920"/>
            <a:ext cx="706680" cy="500040"/>
          </a:xfrm>
          <a:custGeom>
            <a:avLst/>
            <a:gdLst/>
            <a:ahLst/>
            <a:rect l="l" t="t" r="r" b="b"/>
            <a:pathLst>
              <a:path w="1961" h="1390">
                <a:moveTo>
                  <a:pt x="15106" y="10344"/>
                </a:moveTo>
                <a:cubicBezTo>
                  <a:pt x="15094" y="10307"/>
                  <a:pt x="15089" y="10319"/>
                  <a:pt x="15056" y="10269"/>
                </a:cubicBezTo>
                <a:cubicBezTo>
                  <a:pt x="15051" y="10308"/>
                  <a:pt x="15025" y="10642"/>
                  <a:pt x="15032" y="10641"/>
                </a:cubicBezTo>
                <a:cubicBezTo>
                  <a:pt x="15048" y="10608"/>
                  <a:pt x="15065" y="10575"/>
                  <a:pt x="15081" y="10542"/>
                </a:cubicBezTo>
              </a:path>
              <a:path w="1961" h="1390">
                <a:moveTo>
                  <a:pt x="15429" y="10220"/>
                </a:moveTo>
                <a:cubicBezTo>
                  <a:pt x="15306" y="10220"/>
                  <a:pt x="15322" y="10353"/>
                  <a:pt x="15304" y="10443"/>
                </a:cubicBezTo>
                <a:cubicBezTo>
                  <a:pt x="15387" y="10485"/>
                  <a:pt x="15514" y="10484"/>
                  <a:pt x="15553" y="10368"/>
                </a:cubicBezTo>
                <a:cubicBezTo>
                  <a:pt x="15570" y="10317"/>
                  <a:pt x="15521" y="10134"/>
                  <a:pt x="15453" y="10145"/>
                </a:cubicBezTo>
                <a:cubicBezTo>
                  <a:pt x="15375" y="10171"/>
                  <a:pt x="15349" y="10183"/>
                  <a:pt x="15329" y="10244"/>
                </a:cubicBezTo>
              </a:path>
              <a:path w="1961" h="1390">
                <a:moveTo>
                  <a:pt x="14932" y="10765"/>
                </a:moveTo>
                <a:cubicBezTo>
                  <a:pt x="15150" y="10751"/>
                  <a:pt x="15341" y="10680"/>
                  <a:pt x="15553" y="10641"/>
                </a:cubicBezTo>
                <a:cubicBezTo>
                  <a:pt x="15611" y="10641"/>
                  <a:pt x="15619" y="10641"/>
                  <a:pt x="15652" y="10641"/>
                </a:cubicBezTo>
              </a:path>
              <a:path w="1961" h="1390">
                <a:moveTo>
                  <a:pt x="15255" y="11088"/>
                </a:moveTo>
                <a:cubicBezTo>
                  <a:pt x="15357" y="11062"/>
                  <a:pt x="15436" y="11012"/>
                  <a:pt x="15528" y="11038"/>
                </a:cubicBezTo>
                <a:cubicBezTo>
                  <a:pt x="15504" y="11190"/>
                  <a:pt x="15463" y="11231"/>
                  <a:pt x="15329" y="11311"/>
                </a:cubicBezTo>
                <a:cubicBezTo>
                  <a:pt x="15350" y="11249"/>
                  <a:pt x="15506" y="11209"/>
                  <a:pt x="15577" y="11261"/>
                </a:cubicBezTo>
                <a:cubicBezTo>
                  <a:pt x="15737" y="11378"/>
                  <a:pt x="15452" y="11524"/>
                  <a:pt x="15379" y="11534"/>
                </a:cubicBezTo>
                <a:cubicBezTo>
                  <a:pt x="15226" y="11555"/>
                  <a:pt x="15218" y="11564"/>
                  <a:pt x="15230" y="11460"/>
                </a:cubicBezTo>
              </a:path>
              <a:path w="1961" h="1390">
                <a:moveTo>
                  <a:pt x="16321" y="10740"/>
                </a:moveTo>
                <a:cubicBezTo>
                  <a:pt x="16474" y="10728"/>
                  <a:pt x="16643" y="10716"/>
                  <a:pt x="16793" y="10691"/>
                </a:cubicBezTo>
                <a:cubicBezTo>
                  <a:pt x="16850" y="10672"/>
                  <a:pt x="16857" y="10663"/>
                  <a:pt x="16892" y="10666"/>
                </a:cubicBezTo>
              </a:path>
              <a:path w="1961" h="1390">
                <a:moveTo>
                  <a:pt x="16495" y="10443"/>
                </a:moveTo>
                <a:cubicBezTo>
                  <a:pt x="16503" y="10443"/>
                  <a:pt x="16512" y="10443"/>
                  <a:pt x="16520" y="10443"/>
                </a:cubicBezTo>
              </a:path>
              <a:path w="1961" h="1390">
                <a:moveTo>
                  <a:pt x="16594" y="11013"/>
                </a:moveTo>
                <a:cubicBezTo>
                  <a:pt x="16602" y="11013"/>
                  <a:pt x="16611" y="11013"/>
                  <a:pt x="16619" y="1101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5240" y="3562200"/>
            <a:ext cx="349560" cy="509760"/>
          </a:xfrm>
          <a:custGeom>
            <a:avLst/>
            <a:gdLst/>
            <a:ahLst/>
            <a:rect l="l" t="t" r="r" b="b"/>
            <a:pathLst>
              <a:path w="968" h="1415">
                <a:moveTo>
                  <a:pt x="17884" y="10071"/>
                </a:moveTo>
                <a:cubicBezTo>
                  <a:pt x="17974" y="10026"/>
                  <a:pt x="17996" y="10012"/>
                  <a:pt x="18058" y="9996"/>
                </a:cubicBezTo>
                <a:cubicBezTo>
                  <a:pt x="18137" y="10154"/>
                  <a:pt x="18075" y="10259"/>
                  <a:pt x="17934" y="10368"/>
                </a:cubicBezTo>
                <a:cubicBezTo>
                  <a:pt x="17900" y="10394"/>
                  <a:pt x="17788" y="10464"/>
                  <a:pt x="17835" y="10393"/>
                </a:cubicBezTo>
                <a:cubicBezTo>
                  <a:pt x="17968" y="10355"/>
                  <a:pt x="18094" y="10316"/>
                  <a:pt x="18231" y="10368"/>
                </a:cubicBezTo>
                <a:cubicBezTo>
                  <a:pt x="18239" y="10376"/>
                  <a:pt x="18248" y="10385"/>
                  <a:pt x="18256" y="10393"/>
                </a:cubicBezTo>
              </a:path>
              <a:path w="968" h="1415">
                <a:moveTo>
                  <a:pt x="18405" y="9922"/>
                </a:moveTo>
                <a:cubicBezTo>
                  <a:pt x="18405" y="9914"/>
                  <a:pt x="18405" y="9905"/>
                  <a:pt x="18405" y="9897"/>
                </a:cubicBezTo>
                <a:cubicBezTo>
                  <a:pt x="18469" y="9983"/>
                  <a:pt x="18453" y="10115"/>
                  <a:pt x="18455" y="10220"/>
                </a:cubicBezTo>
                <a:cubicBezTo>
                  <a:pt x="18455" y="10302"/>
                  <a:pt x="18455" y="10319"/>
                  <a:pt x="18455" y="10368"/>
                </a:cubicBezTo>
              </a:path>
              <a:path w="968" h="1415">
                <a:moveTo>
                  <a:pt x="17711" y="10592"/>
                </a:moveTo>
                <a:cubicBezTo>
                  <a:pt x="17937" y="10592"/>
                  <a:pt x="18155" y="10554"/>
                  <a:pt x="18380" y="10542"/>
                </a:cubicBezTo>
                <a:cubicBezTo>
                  <a:pt x="18498" y="10536"/>
                  <a:pt x="18568" y="10533"/>
                  <a:pt x="18678" y="10517"/>
                </a:cubicBezTo>
              </a:path>
              <a:path w="968" h="1415">
                <a:moveTo>
                  <a:pt x="18182" y="10864"/>
                </a:moveTo>
                <a:cubicBezTo>
                  <a:pt x="18170" y="10922"/>
                  <a:pt x="18142" y="10977"/>
                  <a:pt x="18132" y="11038"/>
                </a:cubicBezTo>
                <a:cubicBezTo>
                  <a:pt x="18270" y="11038"/>
                  <a:pt x="18373" y="11026"/>
                  <a:pt x="18504" y="10988"/>
                </a:cubicBezTo>
              </a:path>
              <a:path w="968" h="1415">
                <a:moveTo>
                  <a:pt x="18355" y="10691"/>
                </a:moveTo>
                <a:cubicBezTo>
                  <a:pt x="18355" y="10786"/>
                  <a:pt x="18301" y="11285"/>
                  <a:pt x="18380" y="113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8160" y="4330800"/>
            <a:ext cx="2241720" cy="911160"/>
          </a:xfrm>
          <a:custGeom>
            <a:avLst/>
            <a:gdLst/>
            <a:ahLst/>
            <a:rect l="l" t="t" r="r" b="b"/>
            <a:pathLst>
              <a:path w="6227" h="2531">
                <a:moveTo>
                  <a:pt x="15081" y="12626"/>
                </a:moveTo>
                <a:cubicBezTo>
                  <a:pt x="15024" y="12757"/>
                  <a:pt x="14982" y="12991"/>
                  <a:pt x="14982" y="13146"/>
                </a:cubicBezTo>
                <a:cubicBezTo>
                  <a:pt x="15009" y="13200"/>
                  <a:pt x="15021" y="13214"/>
                  <a:pt x="15056" y="13146"/>
                </a:cubicBezTo>
              </a:path>
              <a:path w="6227" h="2531">
                <a:moveTo>
                  <a:pt x="15404" y="12725"/>
                </a:moveTo>
                <a:cubicBezTo>
                  <a:pt x="15387" y="12854"/>
                  <a:pt x="15371" y="12927"/>
                  <a:pt x="15404" y="13047"/>
                </a:cubicBezTo>
                <a:cubicBezTo>
                  <a:pt x="15542" y="13048"/>
                  <a:pt x="15600" y="12914"/>
                  <a:pt x="15503" y="12774"/>
                </a:cubicBezTo>
                <a:cubicBezTo>
                  <a:pt x="15450" y="12698"/>
                  <a:pt x="15355" y="12725"/>
                  <a:pt x="15280" y="12725"/>
                </a:cubicBezTo>
              </a:path>
              <a:path w="6227" h="2531">
                <a:moveTo>
                  <a:pt x="14858" y="13419"/>
                </a:moveTo>
                <a:cubicBezTo>
                  <a:pt x="15114" y="13369"/>
                  <a:pt x="15369" y="13309"/>
                  <a:pt x="15627" y="13271"/>
                </a:cubicBezTo>
                <a:cubicBezTo>
                  <a:pt x="15652" y="13271"/>
                  <a:pt x="15660" y="13271"/>
                  <a:pt x="15627" y="13271"/>
                </a:cubicBezTo>
              </a:path>
              <a:path w="6227" h="2531">
                <a:moveTo>
                  <a:pt x="15230" y="13618"/>
                </a:moveTo>
                <a:cubicBezTo>
                  <a:pt x="15329" y="13555"/>
                  <a:pt x="15362" y="13551"/>
                  <a:pt x="15478" y="13568"/>
                </a:cubicBezTo>
                <a:cubicBezTo>
                  <a:pt x="15518" y="13706"/>
                  <a:pt x="15415" y="13740"/>
                  <a:pt x="15304" y="13816"/>
                </a:cubicBezTo>
                <a:cubicBezTo>
                  <a:pt x="15291" y="13830"/>
                  <a:pt x="15400" y="13776"/>
                  <a:pt x="15503" y="13791"/>
                </a:cubicBezTo>
                <a:cubicBezTo>
                  <a:pt x="15528" y="13940"/>
                  <a:pt x="15475" y="14029"/>
                  <a:pt x="15304" y="14064"/>
                </a:cubicBezTo>
                <a:cubicBezTo>
                  <a:pt x="15213" y="14064"/>
                  <a:pt x="15205" y="14064"/>
                  <a:pt x="15156" y="14064"/>
                </a:cubicBezTo>
              </a:path>
              <a:path w="6227" h="2531">
                <a:moveTo>
                  <a:pt x="16321" y="13072"/>
                </a:moveTo>
                <a:cubicBezTo>
                  <a:pt x="16424" y="13197"/>
                  <a:pt x="16529" y="13333"/>
                  <a:pt x="16619" y="13469"/>
                </a:cubicBezTo>
                <a:cubicBezTo>
                  <a:pt x="16627" y="13486"/>
                  <a:pt x="16636" y="13502"/>
                  <a:pt x="16644" y="13519"/>
                </a:cubicBezTo>
              </a:path>
              <a:path w="6227" h="2531">
                <a:moveTo>
                  <a:pt x="16594" y="13022"/>
                </a:moveTo>
                <a:cubicBezTo>
                  <a:pt x="16464" y="13131"/>
                  <a:pt x="16400" y="13356"/>
                  <a:pt x="16321" y="13519"/>
                </a:cubicBezTo>
                <a:cubicBezTo>
                  <a:pt x="16301" y="13559"/>
                  <a:pt x="16283" y="13575"/>
                  <a:pt x="16321" y="13568"/>
                </a:cubicBezTo>
              </a:path>
              <a:path w="6227" h="2531">
                <a:moveTo>
                  <a:pt x="17388" y="12750"/>
                </a:moveTo>
                <a:cubicBezTo>
                  <a:pt x="17388" y="12824"/>
                  <a:pt x="17372" y="12878"/>
                  <a:pt x="17363" y="12948"/>
                </a:cubicBezTo>
                <a:cubicBezTo>
                  <a:pt x="17511" y="12948"/>
                  <a:pt x="17599" y="12930"/>
                  <a:pt x="17735" y="12874"/>
                </a:cubicBezTo>
              </a:path>
              <a:path w="6227" h="2531">
                <a:moveTo>
                  <a:pt x="17611" y="12502"/>
                </a:moveTo>
                <a:cubicBezTo>
                  <a:pt x="17649" y="12688"/>
                  <a:pt x="17655" y="12901"/>
                  <a:pt x="17661" y="13097"/>
                </a:cubicBezTo>
                <a:cubicBezTo>
                  <a:pt x="17663" y="13152"/>
                  <a:pt x="17675" y="13158"/>
                  <a:pt x="17636" y="13171"/>
                </a:cubicBezTo>
              </a:path>
              <a:path w="6227" h="2531">
                <a:moveTo>
                  <a:pt x="17314" y="13320"/>
                </a:moveTo>
                <a:cubicBezTo>
                  <a:pt x="17520" y="13259"/>
                  <a:pt x="17728" y="13223"/>
                  <a:pt x="17934" y="13171"/>
                </a:cubicBezTo>
              </a:path>
              <a:path w="6227" h="2531">
                <a:moveTo>
                  <a:pt x="17314" y="13618"/>
                </a:moveTo>
                <a:cubicBezTo>
                  <a:pt x="17374" y="13569"/>
                  <a:pt x="17493" y="13524"/>
                  <a:pt x="17562" y="13593"/>
                </a:cubicBezTo>
                <a:cubicBezTo>
                  <a:pt x="17729" y="13760"/>
                  <a:pt x="17427" y="13892"/>
                  <a:pt x="17314" y="13940"/>
                </a:cubicBezTo>
                <a:cubicBezTo>
                  <a:pt x="17248" y="13962"/>
                  <a:pt x="17223" y="13980"/>
                  <a:pt x="17239" y="13915"/>
                </a:cubicBezTo>
                <a:cubicBezTo>
                  <a:pt x="17313" y="13842"/>
                  <a:pt x="17403" y="13808"/>
                  <a:pt x="17512" y="13866"/>
                </a:cubicBezTo>
                <a:cubicBezTo>
                  <a:pt x="17576" y="13900"/>
                  <a:pt x="17520" y="13932"/>
                  <a:pt x="17587" y="13915"/>
                </a:cubicBezTo>
              </a:path>
              <a:path w="6227" h="2531">
                <a:moveTo>
                  <a:pt x="17859" y="13444"/>
                </a:moveTo>
                <a:cubicBezTo>
                  <a:pt x="17908" y="13591"/>
                  <a:pt x="17902" y="13743"/>
                  <a:pt x="17934" y="13891"/>
                </a:cubicBezTo>
                <a:cubicBezTo>
                  <a:pt x="17954" y="13931"/>
                  <a:pt x="17963" y="13937"/>
                  <a:pt x="17959" y="13965"/>
                </a:cubicBezTo>
              </a:path>
              <a:path w="6227" h="2531">
                <a:moveTo>
                  <a:pt x="18355" y="13047"/>
                </a:moveTo>
                <a:cubicBezTo>
                  <a:pt x="18464" y="13061"/>
                  <a:pt x="18562" y="13072"/>
                  <a:pt x="18678" y="13072"/>
                </a:cubicBezTo>
                <a:cubicBezTo>
                  <a:pt x="18729" y="13072"/>
                  <a:pt x="18731" y="13097"/>
                  <a:pt x="18678" y="13171"/>
                </a:cubicBezTo>
              </a:path>
              <a:path w="6227" h="2531">
                <a:moveTo>
                  <a:pt x="18455" y="13370"/>
                </a:moveTo>
                <a:cubicBezTo>
                  <a:pt x="18472" y="13367"/>
                  <a:pt x="18829" y="13320"/>
                  <a:pt x="18752" y="13320"/>
                </a:cubicBezTo>
              </a:path>
              <a:path w="6227" h="2531">
                <a:moveTo>
                  <a:pt x="19447" y="12551"/>
                </a:moveTo>
                <a:cubicBezTo>
                  <a:pt x="19459" y="12669"/>
                  <a:pt x="19381" y="12753"/>
                  <a:pt x="19348" y="12874"/>
                </a:cubicBezTo>
                <a:cubicBezTo>
                  <a:pt x="19495" y="12855"/>
                  <a:pt x="19691" y="12835"/>
                  <a:pt x="19819" y="12750"/>
                </a:cubicBezTo>
                <a:cubicBezTo>
                  <a:pt x="19811" y="12750"/>
                  <a:pt x="19802" y="12750"/>
                  <a:pt x="19794" y="12750"/>
                </a:cubicBezTo>
              </a:path>
              <a:path w="6227" h="2531">
                <a:moveTo>
                  <a:pt x="19794" y="12452"/>
                </a:moveTo>
                <a:cubicBezTo>
                  <a:pt x="19754" y="12649"/>
                  <a:pt x="19730" y="12866"/>
                  <a:pt x="19695" y="13072"/>
                </a:cubicBezTo>
                <a:cubicBezTo>
                  <a:pt x="19695" y="13080"/>
                  <a:pt x="19695" y="13089"/>
                  <a:pt x="19695" y="13097"/>
                </a:cubicBezTo>
              </a:path>
              <a:path w="6227" h="2531">
                <a:moveTo>
                  <a:pt x="20017" y="12601"/>
                </a:moveTo>
                <a:cubicBezTo>
                  <a:pt x="20003" y="12854"/>
                  <a:pt x="19975" y="12911"/>
                  <a:pt x="20117" y="13097"/>
                </a:cubicBezTo>
                <a:cubicBezTo>
                  <a:pt x="20256" y="13031"/>
                  <a:pt x="20534" y="12760"/>
                  <a:pt x="20265" y="12601"/>
                </a:cubicBezTo>
                <a:cubicBezTo>
                  <a:pt x="20113" y="12601"/>
                  <a:pt x="20061" y="12603"/>
                  <a:pt x="19993" y="12700"/>
                </a:cubicBezTo>
              </a:path>
              <a:path w="6227" h="2531">
                <a:moveTo>
                  <a:pt x="19323" y="13419"/>
                </a:moveTo>
                <a:cubicBezTo>
                  <a:pt x="19652" y="13320"/>
                  <a:pt x="19980" y="13190"/>
                  <a:pt x="20315" y="13122"/>
                </a:cubicBezTo>
                <a:cubicBezTo>
                  <a:pt x="20323" y="13122"/>
                  <a:pt x="20332" y="13122"/>
                  <a:pt x="20340" y="13122"/>
                </a:cubicBezTo>
              </a:path>
              <a:path w="6227" h="2531">
                <a:moveTo>
                  <a:pt x="19546" y="13543"/>
                </a:moveTo>
                <a:cubicBezTo>
                  <a:pt x="19594" y="13615"/>
                  <a:pt x="19431" y="13859"/>
                  <a:pt x="19397" y="13965"/>
                </a:cubicBezTo>
                <a:cubicBezTo>
                  <a:pt x="19389" y="14006"/>
                  <a:pt x="19380" y="14048"/>
                  <a:pt x="19372" y="14089"/>
                </a:cubicBezTo>
                <a:cubicBezTo>
                  <a:pt x="19560" y="14156"/>
                  <a:pt x="19663" y="14099"/>
                  <a:pt x="19769" y="13915"/>
                </a:cubicBezTo>
                <a:cubicBezTo>
                  <a:pt x="19789" y="13855"/>
                  <a:pt x="19808" y="13840"/>
                  <a:pt x="19769" y="13816"/>
                </a:cubicBezTo>
                <a:cubicBezTo>
                  <a:pt x="19642" y="13848"/>
                  <a:pt x="19524" y="13977"/>
                  <a:pt x="19596" y="14139"/>
                </a:cubicBezTo>
                <a:cubicBezTo>
                  <a:pt x="19612" y="14139"/>
                  <a:pt x="19629" y="14139"/>
                  <a:pt x="19645" y="14139"/>
                </a:cubicBezTo>
              </a:path>
              <a:path w="6227" h="2531">
                <a:moveTo>
                  <a:pt x="20042" y="13519"/>
                </a:moveTo>
                <a:cubicBezTo>
                  <a:pt x="19959" y="13491"/>
                  <a:pt x="20118" y="13427"/>
                  <a:pt x="20141" y="13419"/>
                </a:cubicBezTo>
                <a:cubicBezTo>
                  <a:pt x="20174" y="13411"/>
                  <a:pt x="20208" y="13403"/>
                  <a:pt x="20241" y="13395"/>
                </a:cubicBezTo>
                <a:cubicBezTo>
                  <a:pt x="20253" y="13495"/>
                  <a:pt x="20284" y="13609"/>
                  <a:pt x="20166" y="13667"/>
                </a:cubicBezTo>
                <a:cubicBezTo>
                  <a:pt x="20158" y="13667"/>
                  <a:pt x="20149" y="13667"/>
                  <a:pt x="20141" y="13667"/>
                </a:cubicBezTo>
                <a:cubicBezTo>
                  <a:pt x="20170" y="13567"/>
                  <a:pt x="20319" y="13536"/>
                  <a:pt x="20340" y="13692"/>
                </a:cubicBezTo>
                <a:cubicBezTo>
                  <a:pt x="20369" y="13906"/>
                  <a:pt x="20168" y="13947"/>
                  <a:pt x="20017" y="13965"/>
                </a:cubicBezTo>
              </a:path>
              <a:path w="6227" h="2531">
                <a:moveTo>
                  <a:pt x="18926" y="14312"/>
                </a:moveTo>
                <a:cubicBezTo>
                  <a:pt x="19016" y="14416"/>
                  <a:pt x="19079" y="14499"/>
                  <a:pt x="19224" y="14536"/>
                </a:cubicBezTo>
                <a:cubicBezTo>
                  <a:pt x="19537" y="14616"/>
                  <a:pt x="19955" y="14554"/>
                  <a:pt x="20241" y="14412"/>
                </a:cubicBezTo>
                <a:cubicBezTo>
                  <a:pt x="20486" y="14291"/>
                  <a:pt x="20684" y="14088"/>
                  <a:pt x="20836" y="13866"/>
                </a:cubicBezTo>
                <a:cubicBezTo>
                  <a:pt x="20994" y="13636"/>
                  <a:pt x="21107" y="13359"/>
                  <a:pt x="21084" y="13072"/>
                </a:cubicBezTo>
                <a:cubicBezTo>
                  <a:pt x="21068" y="12869"/>
                  <a:pt x="20976" y="12586"/>
                  <a:pt x="20886" y="12402"/>
                </a:cubicBezTo>
                <a:cubicBezTo>
                  <a:pt x="20796" y="12218"/>
                  <a:pt x="20674" y="12147"/>
                  <a:pt x="20489" y="12080"/>
                </a:cubicBezTo>
                <a:cubicBezTo>
                  <a:pt x="20272" y="12001"/>
                  <a:pt x="19996" y="12004"/>
                  <a:pt x="19769" y="12055"/>
                </a:cubicBezTo>
                <a:cubicBezTo>
                  <a:pt x="19539" y="12107"/>
                  <a:pt x="19401" y="12266"/>
                  <a:pt x="19248" y="12427"/>
                </a:cubicBezTo>
                <a:cubicBezTo>
                  <a:pt x="19101" y="12582"/>
                  <a:pt x="19036" y="12731"/>
                  <a:pt x="18951" y="12923"/>
                </a:cubicBezTo>
                <a:cubicBezTo>
                  <a:pt x="18876" y="13092"/>
                  <a:pt x="18842" y="13239"/>
                  <a:pt x="18802" y="13419"/>
                </a:cubicBezTo>
                <a:cubicBezTo>
                  <a:pt x="18760" y="13611"/>
                  <a:pt x="18728" y="13776"/>
                  <a:pt x="18802" y="13965"/>
                </a:cubicBezTo>
                <a:cubicBezTo>
                  <a:pt x="18847" y="14079"/>
                  <a:pt x="18889" y="14184"/>
                  <a:pt x="18951" y="14288"/>
                </a:cubicBezTo>
                <a:cubicBezTo>
                  <a:pt x="18973" y="14325"/>
                  <a:pt x="19006" y="14372"/>
                  <a:pt x="19025" y="14387"/>
                </a:cubicBezTo>
                <a:cubicBezTo>
                  <a:pt x="19033" y="14387"/>
                  <a:pt x="19042" y="14387"/>
                  <a:pt x="19050" y="1438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83240" y="625320"/>
            <a:ext cx="223920" cy="285840"/>
          </a:xfrm>
          <a:custGeom>
            <a:avLst/>
            <a:gdLst/>
            <a:ahLst/>
            <a:rect l="l" t="t" r="r" b="b"/>
            <a:pathLst>
              <a:path w="621" h="795">
                <a:moveTo>
                  <a:pt x="18033" y="1885"/>
                </a:moveTo>
                <a:cubicBezTo>
                  <a:pt x="18053" y="2100"/>
                  <a:pt x="18101" y="2297"/>
                  <a:pt x="18157" y="2505"/>
                </a:cubicBezTo>
                <a:cubicBezTo>
                  <a:pt x="18125" y="2506"/>
                  <a:pt x="18048" y="2093"/>
                  <a:pt x="18033" y="2009"/>
                </a:cubicBezTo>
                <a:cubicBezTo>
                  <a:pt x="18016" y="1915"/>
                  <a:pt x="18008" y="1866"/>
                  <a:pt x="18008" y="1786"/>
                </a:cubicBezTo>
                <a:cubicBezTo>
                  <a:pt x="18169" y="1786"/>
                  <a:pt x="18319" y="1747"/>
                  <a:pt x="18479" y="1736"/>
                </a:cubicBezTo>
                <a:cubicBezTo>
                  <a:pt x="18652" y="1724"/>
                  <a:pt x="18647" y="1708"/>
                  <a:pt x="18604" y="1811"/>
                </a:cubicBezTo>
              </a:path>
              <a:path w="621" h="795">
                <a:moveTo>
                  <a:pt x="18083" y="2208"/>
                </a:moveTo>
                <a:cubicBezTo>
                  <a:pt x="18136" y="2208"/>
                  <a:pt x="18152" y="2186"/>
                  <a:pt x="18207" y="2183"/>
                </a:cubicBezTo>
                <a:cubicBezTo>
                  <a:pt x="18300" y="2177"/>
                  <a:pt x="18383" y="2158"/>
                  <a:pt x="18479" y="2158"/>
                </a:cubicBezTo>
                <a:cubicBezTo>
                  <a:pt x="18504" y="2158"/>
                  <a:pt x="18512" y="2158"/>
                  <a:pt x="18529" y="215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7080" y="955800"/>
            <a:ext cx="366840" cy="455400"/>
          </a:xfrm>
          <a:custGeom>
            <a:avLst/>
            <a:gdLst/>
            <a:ahLst/>
            <a:rect l="l" t="t" r="r" b="b"/>
            <a:pathLst>
              <a:path w="1018" h="1266">
                <a:moveTo>
                  <a:pt x="18380" y="3249"/>
                </a:moveTo>
                <a:cubicBezTo>
                  <a:pt x="18426" y="3318"/>
                  <a:pt x="18490" y="3205"/>
                  <a:pt x="18579" y="3249"/>
                </a:cubicBezTo>
                <a:cubicBezTo>
                  <a:pt x="18856" y="3385"/>
                  <a:pt x="18726" y="3793"/>
                  <a:pt x="18504" y="3919"/>
                </a:cubicBezTo>
                <a:cubicBezTo>
                  <a:pt x="18463" y="3919"/>
                  <a:pt x="18421" y="3919"/>
                  <a:pt x="18380" y="3919"/>
                </a:cubicBezTo>
                <a:cubicBezTo>
                  <a:pt x="18364" y="3766"/>
                  <a:pt x="18481" y="3682"/>
                  <a:pt x="18653" y="3721"/>
                </a:cubicBezTo>
                <a:cubicBezTo>
                  <a:pt x="18818" y="3758"/>
                  <a:pt x="18763" y="3956"/>
                  <a:pt x="18827" y="3671"/>
                </a:cubicBezTo>
              </a:path>
              <a:path w="1018" h="1266">
                <a:moveTo>
                  <a:pt x="18777" y="3125"/>
                </a:moveTo>
                <a:cubicBezTo>
                  <a:pt x="18800" y="3176"/>
                  <a:pt x="18818" y="3220"/>
                  <a:pt x="18827" y="3274"/>
                </a:cubicBezTo>
                <a:cubicBezTo>
                  <a:pt x="18803" y="3238"/>
                  <a:pt x="18734" y="3120"/>
                  <a:pt x="18827" y="3101"/>
                </a:cubicBezTo>
                <a:cubicBezTo>
                  <a:pt x="18957" y="3074"/>
                  <a:pt x="19038" y="3151"/>
                  <a:pt x="19100" y="3249"/>
                </a:cubicBezTo>
              </a:path>
              <a:path w="1018" h="1266">
                <a:moveTo>
                  <a:pt x="19248" y="2902"/>
                </a:moveTo>
                <a:cubicBezTo>
                  <a:pt x="19148" y="2990"/>
                  <a:pt x="19115" y="3052"/>
                  <a:pt x="19199" y="3150"/>
                </a:cubicBezTo>
                <a:cubicBezTo>
                  <a:pt x="19380" y="3044"/>
                  <a:pt x="19381" y="2929"/>
                  <a:pt x="19298" y="2729"/>
                </a:cubicBezTo>
                <a:cubicBezTo>
                  <a:pt x="19281" y="2704"/>
                  <a:pt x="19265" y="2679"/>
                  <a:pt x="19248" y="2654"/>
                </a:cubicBezTo>
                <a:cubicBezTo>
                  <a:pt x="19286" y="2785"/>
                  <a:pt x="19340" y="2914"/>
                  <a:pt x="19372" y="305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93920" y="2062080"/>
            <a:ext cx="857160" cy="295200"/>
          </a:xfrm>
          <a:custGeom>
            <a:avLst/>
            <a:gdLst/>
            <a:ahLst/>
            <a:rect l="l" t="t" r="r" b="b"/>
            <a:pathLst>
              <a:path w="2382" h="819">
                <a:moveTo>
                  <a:pt x="6176" y="6548"/>
                </a:moveTo>
                <a:lnTo>
                  <a:pt x="6176" y="6548"/>
                </a:lnTo>
              </a:path>
              <a:path w="2382" h="819">
                <a:moveTo>
                  <a:pt x="6201" y="6548"/>
                </a:moveTo>
                <a:cubicBezTo>
                  <a:pt x="6218" y="6540"/>
                  <a:pt x="6234" y="6532"/>
                  <a:pt x="6251" y="6524"/>
                </a:cubicBezTo>
              </a:path>
              <a:path w="2382" h="819">
                <a:moveTo>
                  <a:pt x="3944" y="5755"/>
                </a:moveTo>
                <a:cubicBezTo>
                  <a:pt x="3999" y="5739"/>
                  <a:pt x="4204" y="5770"/>
                  <a:pt x="4291" y="5779"/>
                </a:cubicBezTo>
                <a:cubicBezTo>
                  <a:pt x="4664" y="5816"/>
                  <a:pt x="5035" y="5872"/>
                  <a:pt x="5407" y="5904"/>
                </a:cubicBezTo>
                <a:cubicBezTo>
                  <a:pt x="5674" y="5927"/>
                  <a:pt x="5359" y="5879"/>
                  <a:pt x="5358" y="5879"/>
                </a:cubicBezTo>
              </a:path>
              <a:path w="2382" h="819">
                <a:moveTo>
                  <a:pt x="3870" y="5804"/>
                </a:moveTo>
                <a:cubicBezTo>
                  <a:pt x="3904" y="5752"/>
                  <a:pt x="4129" y="5870"/>
                  <a:pt x="4192" y="5879"/>
                </a:cubicBezTo>
                <a:cubicBezTo>
                  <a:pt x="4493" y="5922"/>
                  <a:pt x="4786" y="5976"/>
                  <a:pt x="5085" y="6028"/>
                </a:cubicBezTo>
                <a:cubicBezTo>
                  <a:pt x="5110" y="6028"/>
                  <a:pt x="5118" y="6028"/>
                  <a:pt x="5135" y="60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2120" y="2241720"/>
            <a:ext cx="581040" cy="4214520"/>
          </a:xfrm>
          <a:custGeom>
            <a:avLst/>
            <a:gdLst/>
            <a:ahLst/>
            <a:rect l="l" t="t" r="r" b="b"/>
            <a:pathLst>
              <a:path w="1614" h="11709">
                <a:moveTo>
                  <a:pt x="11857" y="6226"/>
                </a:moveTo>
                <a:cubicBezTo>
                  <a:pt x="11589" y="6596"/>
                  <a:pt x="11572" y="6851"/>
                  <a:pt x="11733" y="7293"/>
                </a:cubicBezTo>
                <a:cubicBezTo>
                  <a:pt x="12055" y="8176"/>
                  <a:pt x="11869" y="8256"/>
                  <a:pt x="11361" y="9054"/>
                </a:cubicBezTo>
                <a:cubicBezTo>
                  <a:pt x="10719" y="10062"/>
                  <a:pt x="11509" y="9947"/>
                  <a:pt x="11658" y="10889"/>
                </a:cubicBezTo>
                <a:cubicBezTo>
                  <a:pt x="11792" y="11732"/>
                  <a:pt x="10896" y="12450"/>
                  <a:pt x="10666" y="13196"/>
                </a:cubicBezTo>
                <a:cubicBezTo>
                  <a:pt x="10348" y="14229"/>
                  <a:pt x="11100" y="15081"/>
                  <a:pt x="10939" y="16098"/>
                </a:cubicBezTo>
                <a:cubicBezTo>
                  <a:pt x="10855" y="16625"/>
                  <a:pt x="10249" y="17112"/>
                  <a:pt x="10393" y="17661"/>
                </a:cubicBezTo>
                <a:cubicBezTo>
                  <a:pt x="10424" y="17780"/>
                  <a:pt x="10422" y="17788"/>
                  <a:pt x="10443" y="179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mework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 Worksheet -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anne elizabeth mcgrath</cp:lastModifiedBy>
  <dcterms:modified xsi:type="dcterms:W3CDTF">2011-03-14T16:33:04Z</dcterms:modified>
  <cp:revision>13</cp:revision>
  <dc:subject/>
  <dc:title>Obj 5.4:  To divide fractions &amp; mixed numbers.</dc:title>
</cp:coreProperties>
</file>